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8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A4C3-CFEF-4306-9F5B-72D1A0A1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A2FA-EA99-4108-A020-29C11CA9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DD4A-5DF4-49F0-884C-5FF6AA5D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F1E8-9FA0-46A6-82B7-9C22E633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02F8-04D4-4418-9C9D-AFBA3F54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4B26-E827-4460-8C35-05979018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C6DA-5AB8-4C14-90AF-8C5B886A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26E4-D906-47F2-8E9F-4A755169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363B-393D-4A83-B3AA-10189965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9054-2312-4BC3-B546-25934D81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93C3-5BD7-4DD6-B08A-88989AE8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66A5-42BB-44D5-8CB5-F898F23A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8CFC-9A01-4001-898E-F2AB3F52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8E30-1201-4D0C-BD2E-A6F1ECB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3748-21E8-431E-B421-581DB2A4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42CC-3E4B-4693-9705-0783D9F9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FF71-CC31-4F33-BFEE-8300CC4F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8D80-947D-4286-BA85-A053D23A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8E66-547D-4CF0-B652-D11023AF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B4724-EE5C-47EF-BD99-E3422391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4F84-4435-407A-AC7B-74618F6E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7000-0534-4454-AEB3-89ABFC20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6662-4404-4CDC-AB17-F3BCE10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5FAC-EAC2-4ABD-A6ED-E15D197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87AD-2697-4633-B3FE-566A1FB2E1D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6EF5-AD35-4F51-8D9A-179433BD739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8532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数  学  建  模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6920" y="3860640"/>
            <a:ext cx="7705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从自然走向理性之路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16D2-AD5F-49CC-B29F-83EBAF8605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首先要解决的问题是“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公平性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”的度量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先从两方分配席位的情形开始讨论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76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两方人数分别是</a:t>
            </a:r>
            <a:r>
              <a:rPr b="0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p1,p2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分别占有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n1,n2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席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78936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两方每个席位所代表的人数分别是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p1/n1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    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p2/n2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8EF6-D99B-4434-A12B-5AF61C8B05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所谓公平，即要求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p1/n1= p2/n2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但这两个数不一定是整数，通常它们不相等，于是产生不公平，而这种“不公平”的程度可以用数值</a:t>
            </a:r>
            <a:r>
              <a:rPr b="0" lang="zh-CN" sz="3200" spc="-1" strike="noStrike">
                <a:solidFill>
                  <a:srgbClr val="ffcc00"/>
                </a:solidFill>
                <a:latin typeface="Garamond"/>
              </a:rPr>
              <a:t>|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</a:rPr>
              <a:t>/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</a:rPr>
              <a:t>1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</a:rPr>
              <a:t>- 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</a:rPr>
              <a:t>/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Garamond"/>
              </a:rPr>
              <a:t> |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来表示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它衡量的是“绝对不公平”程度，不是一个好的衡量标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9983-0031-4169-9CDD-D0110D0ECF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与工业上通常用“相对误差”来度量工件精度相仿，我们引入相对不公平度量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如果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&gt; 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则此时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不公平，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为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相对不公平值，记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(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050920" y="2008080"/>
          <a:ext cx="460872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008080"/>
                    <a:ext cx="46087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65D1-1EC6-4DAB-A82A-18AABCFE64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如果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&lt; 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则此时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不公平，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为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相对不公平值，记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(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68360" y="1268280"/>
          <a:ext cx="41752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268280"/>
                    <a:ext cx="41752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608A-C3F5-46CB-829C-9A6A5DA13F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假设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两方已分别占有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, 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席位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以下我们用相对不公平的概念来讨论，当总席位再增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席时，应该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还是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不妨设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&gt; 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此时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不公平，当再分配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席位时，有以下三种情形要考虑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 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（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＋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）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&gt; 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 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 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新增一席分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后，仍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不公平，故这种情形下这一席位当然要分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EA86-B981-4449-825F-CD00C16512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（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＋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）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&lt;  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 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新增一席分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后，将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不公平，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相对不公平值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 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 &gt;  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（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＋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新增一席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，必然使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不公平程度增加，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相对不公平值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63640" y="2133720"/>
          <a:ext cx="626436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62643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181E-BAD0-48E2-BBEC-28738A5C75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除了第一种情形必然分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以外，公平的席位分配方法应该使得相对不公平值尽量小，所以如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79640" y="692280"/>
          <a:ext cx="532908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92280"/>
                    <a:ext cx="5329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55560" y="4508640"/>
          <a:ext cx="848844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560" y="4508640"/>
                    <a:ext cx="84884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42C2-1309-4958-945C-EB73EF3777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这一席位应分配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；反之，应分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式等价于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而对于第一种情形，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式显然也成立，故有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12680" y="2205000"/>
          <a:ext cx="813132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205000"/>
                    <a:ext cx="81313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B632-62B0-42AB-8D97-A77ADFA298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40464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Garamond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当 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(2)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式成立时，新增的 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1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个席位应当分给 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A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方；反之，应分配给 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B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方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上述方法推广到 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m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分配席位的情况。设第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已获得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席位，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47640" y="4365720"/>
          <a:ext cx="69120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365720"/>
                    <a:ext cx="69120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CA92-D3C3-4CB8-8A7E-2D02B27150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当增加一个席位时，这一席位应分配给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ffcc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值最大的一方，然后重新计算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ffcc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 (i=1,2,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…m)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，直到所有席位分配完为止。此方法称为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 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值方法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应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值方法于本例三方分配席位的情形，先按比例的整数部分分配，即甲、乙、丙系分别获得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个席位，然后按下表分配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DFCB-A177-4DB5-91E9-0E754F0B5B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二讲  初等模型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【主要内容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介绍几个初等模型：椅子问题、席位分配问题、行走步长问题、雨中行走问题、实物交换模型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【主要目的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体会数学建模的形式多样性与方法多样性，了解建模思想，着重理解由现实问题向数学问题的转化过程。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7B0F-A748-44E4-803F-FC816B4FDA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值方法席位分配表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席位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结果是丙系获得了最后分配的一个席位。本模型的关键是给出了一个为各方都能接受的合理的“公平性”度量，提出了“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值方法”，并且该方法具有很强的可操作性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00000" y="1268280"/>
          <a:ext cx="7775640" cy="1606680"/>
        </p:xfrm>
        <a:graphic>
          <a:graphicData uri="http://schemas.openxmlformats.org/drawingml/2006/table">
            <a:tbl>
              <a:tblPr/>
              <a:tblGrid>
                <a:gridCol w="1457280"/>
                <a:gridCol w="631836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甲系         乙系        丙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华文仿宋"/>
                          <a:ea typeface="华文仿宋"/>
                        </a:rPr>
                        <a:t>96.4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）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4.5        96.3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484360" y="1916280"/>
            <a:ext cx="61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234936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227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80.4         94.5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96.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E7B5-1742-44EC-A3E2-94F213F8111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行走步长问题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问题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人在匀速行走时步长多大最省劲？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人的体重为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腿重为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腿长为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速度为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v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单位时间步数为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步长为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（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v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 =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n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 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48D2-D5BD-4617-8A0E-97A0B73855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20800" y="476280"/>
            <a:ext cx="570240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D441-FD4A-4F5C-AFF4-866B969A46A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人行走时所做的功转化成两个部分：一部分抬高人体重心，转化为势能，另一部分转化为两腿运动的动能 （上身运动的动能是常数，与步长无关，故不考虑）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下面分别计算之。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重心升高所需的能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记一步中重心升高为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则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3FE0-91AC-41ED-91E2-8AC4187933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79640" y="692280"/>
          <a:ext cx="475308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92280"/>
                    <a:ext cx="475308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E52A-A631-42BE-A03D-645675AA6A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于是，单位时间重心升高所需做功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腿运动所需的能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人行走时腿的运动视为均匀直杆（腿）绕腰部的转动，则在单位时间内所需动能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26920" y="1197000"/>
          <a:ext cx="76327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632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908000" y="4508640"/>
          <a:ext cx="4176720" cy="12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508640"/>
                    <a:ext cx="417672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963A-B676-44F1-B4CB-38D1E16706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其中转动惯量         ，角速度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，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单位时间所做的功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38360" y="351000"/>
          <a:ext cx="169236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351000"/>
                    <a:ext cx="169236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012000" y="476280"/>
          <a:ext cx="216036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476280"/>
                    <a:ext cx="21603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71640" y="1628640"/>
          <a:ext cx="7056360" cy="14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1628640"/>
                    <a:ext cx="70563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4149720"/>
          <a:ext cx="7200720" cy="12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4149720"/>
                    <a:ext cx="7200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FB27-FFDC-4A1C-982F-C5092A806C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令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解得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检验此结果的合理性，带入具体数值，假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M/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9.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秒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计算得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=5.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步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秒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404280"/>
            <a:ext cx="914400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3492360" y="549360"/>
          <a:ext cx="1152720" cy="8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549360"/>
                    <a:ext cx="115272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411280" y="1700280"/>
          <a:ext cx="4465800" cy="129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1700280"/>
                    <a:ext cx="44658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6453-B57D-4B5D-B13E-C953529C93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上述结果与实际情形差异较大，有人提出将模型改进为：将腿的质量集中在脚部，行走看作是脚的直线运动，则动能部分改变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这时的最优解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带入具体数值，得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=3.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步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秒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059280" y="1773360"/>
          <a:ext cx="3025440" cy="118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73360"/>
                    <a:ext cx="302544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492360" y="3500280"/>
          <a:ext cx="24480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500280"/>
                    <a:ext cx="24480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DDD7-7114-4E9B-AA74-E837368345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结果与实际较接近，但模型改进的理由并不充分，合理性有待考证。也有人认为上面两个模型过于简化了，人在行走时腿的运动不能近似为匀速运动，每一步都有一个从静止到运动再到静止的加速与减速过程，而在这个变速过程中所多消耗的能量也许不是一个可忽略的量。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BCA1-AE66-44BD-A016-0C97BD5B0C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椅子问题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问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四条腿长度相等的方椅子放在不平的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面上，四条腿能否同时着地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椅子中心不动，四条腿的下端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B,C,D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示，中心点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用对角线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C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与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轴的夹角 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来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示椅子的位置。四点距地面的距离分别设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b,c,d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它们都是旋转角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函数。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80BD6-D834-4E74-96AD-E3B001C769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3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9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4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雨中行走问题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考虑人在雨中沿一直线行走，雨速已知，问人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走的速度多大才能使淋雨量最小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人行走速度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U,0,0) (U&gt;0)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雨速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Vx, Vy, Vz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行走距离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人视为长方体，前、侧、顶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面积之比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:L:T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1944720" cy="29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6DAD-50C8-4477-97FD-824683EF5D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2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8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1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单位时间淋雨量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{|U-Vx|, |0-Vy|, |0-Vz|}·{1, L , T}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＝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| U-Vx | + |Vy|·L + |Vz|·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＝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| U-Vx | + A      (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其中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 = |Vy|·L + |Vz|·T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总淋雨量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R(U)=S/U·(|U-Vx| + A 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7069-9FB0-4D1A-AC40-F003DE9F1F1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因此，雨中行走问题抽象成数学问题：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已知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S , Vx ,A,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求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U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为何值时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R(U)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达最小值？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下面分几种情况讨论。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Vx &lt; 0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（即风从迎面吹来）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R(U)=S/U·(U +|Vx| + A )= S + S·(|Vx| + A )/ U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此时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R(U)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关于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U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递减，走得越快越好。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8A48-18D9-4164-914C-E61A5AC31E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87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Vx &gt; 0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时（即风从背面吹来）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1268280"/>
          <a:ext cx="806472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0647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16000" y="3716280"/>
          <a:ext cx="691200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716280"/>
                    <a:ext cx="69120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CB66-085C-4670-989A-C06FC9BB90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Vx &lt; A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恒有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R’(U) &lt; 0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无极小值，即走得越快越好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Vx &gt; A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R(U)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图形如图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</a:rPr>
              <a:t>结论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当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0 &lt; A &lt; Vx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时，取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U = Vx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     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其他情况下，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U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应尽可能大。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11280" y="2349360"/>
          <a:ext cx="345600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3456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4105080" cy="2735280"/>
          </a:xfrm>
          <a:prstGeom prst="rect">
            <a:avLst/>
          </a:prstGeom>
          <a:ln w="44280">
            <a:solidFill>
              <a:srgbClr val="000514"/>
            </a:solidFill>
            <a:miter/>
          </a:ln>
        </p:spPr>
      </p:pic>
      <p:sp>
        <p:nvSpPr>
          <p:cNvPr id="257" name=""/>
          <p:cNvSpPr/>
          <p:nvPr/>
        </p:nvSpPr>
        <p:spPr>
          <a:xfrm>
            <a:off x="179280" y="1700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U=V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1548-92D0-439F-B8FB-25B54203D5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   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实物交换模型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实物交换的原则是：互通有无，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仿宋"/>
              </a:rPr>
              <a:t>等价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交换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一条重要的市场交换规则是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设交换前甲有物品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X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的数量为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，乙有物品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Y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的数量为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y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，交换后甲有物品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X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和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Y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的数量分别为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和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y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。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"/>
          <p:cNvSpPr/>
          <p:nvPr/>
        </p:nvSpPr>
        <p:spPr>
          <a:xfrm>
            <a:off x="6443640" y="2924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仿宋"/>
              </a:rPr>
              <a:t>物以稀为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19AD-533A-4723-8D11-A15E944C2F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于是矩形                                                内任一点的坐标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x,y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 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都代表了一种交换方案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用无差别曲线描述甲对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Y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偏爱程度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79640" y="260280"/>
          <a:ext cx="3816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0280"/>
                    <a:ext cx="3816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1403280" y="2060640"/>
            <a:ext cx="684072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514B-FD87-4377-8845-A44FFB9B21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甲有无数条无差别曲线，记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称为满意度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越大，曲线越往右上方。该曲线应满足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单调减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.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互不相交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203640" y="1341360"/>
          <a:ext cx="230328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341360"/>
                    <a:ext cx="23032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556000" y="3500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物品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增加必须以物品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减少为代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27280" y="4869000"/>
            <a:ext cx="61200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对同一交换方案，不应有不同的满意度值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12D7-4EB4-444D-9B72-E34E395C202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.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下凸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或者说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y</a:t>
            </a:r>
            <a:r>
              <a:rPr b="1" i="1" lang="zh-CN" sz="2800" spc="-1" strike="noStrike" baseline="30000">
                <a:solidFill>
                  <a:srgbClr val="ffffff"/>
                </a:solidFill>
                <a:latin typeface="Times New Roman"/>
                <a:ea typeface="바탕"/>
              </a:rPr>
              <a:t>’’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바탕"/>
              </a:rPr>
              <a:t>&gt;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所以曲线是下凸的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211640" y="1399680"/>
            <a:ext cx="5994360" cy="5020920"/>
            <a:chOff x="4211640" y="1399680"/>
            <a:chExt cx="5994360" cy="5020920"/>
          </a:xfrm>
        </p:grpSpPr>
        <p:sp>
          <p:nvSpPr>
            <p:cNvPr id="278" name=""/>
            <p:cNvSpPr/>
            <p:nvPr/>
          </p:nvSpPr>
          <p:spPr>
            <a:xfrm>
              <a:off x="4516560" y="6037200"/>
              <a:ext cx="3562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506480" y="3294000"/>
              <a:ext cx="972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 rot="21443400">
              <a:off x="4929120" y="1515600"/>
              <a:ext cx="5181840" cy="426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04" y="17"/>
                  </a:moveTo>
                  <a:arcTo wR="10800" hR="10800" stAng="-5207732" swAng="51524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04" y="17"/>
                  </a:moveTo>
                  <a:arcTo wR="10800" hR="10800" stAng="-5207732" swAng="5152417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11640" y="314172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87960" y="586908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92920" y="5960880"/>
              <a:ext cx="5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5649840" y="2607120"/>
              <a:ext cx="3352320" cy="259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6183360" y="2904120"/>
              <a:ext cx="2285280" cy="184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92" y="66"/>
                  </a:moveTo>
                  <a:arcTo wR="10800" hR="10800" stAng="-5019868" swAng="501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92" y="66"/>
                  </a:moveTo>
                  <a:arcTo wR="10800" hR="10800" stAng="-5019868" swAng="5019868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97560" y="337032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x,y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)=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80000" y="3860640"/>
            <a:ext cx="1904760" cy="1218600"/>
            <a:chOff x="5580000" y="3860640"/>
            <a:chExt cx="1904760" cy="1218600"/>
          </a:xfrm>
        </p:grpSpPr>
        <p:sp>
          <p:nvSpPr>
            <p:cNvPr id="288" name=""/>
            <p:cNvSpPr/>
            <p:nvPr/>
          </p:nvSpPr>
          <p:spPr>
            <a:xfrm flipV="1">
              <a:off x="5580000" y="4012560"/>
              <a:ext cx="114300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98960" y="38606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716360" y="4005360"/>
            <a:ext cx="1114200" cy="1371600"/>
            <a:chOff x="4716360" y="4005360"/>
            <a:chExt cx="1114200" cy="1371600"/>
          </a:xfrm>
        </p:grpSpPr>
        <p:grpSp>
          <p:nvGrpSpPr>
            <p:cNvPr id="291" name=""/>
            <p:cNvGrpSpPr/>
            <p:nvPr/>
          </p:nvGrpSpPr>
          <p:grpSpPr>
            <a:xfrm>
              <a:off x="4716360" y="4310280"/>
              <a:ext cx="857160" cy="1066680"/>
              <a:chOff x="4716360" y="4310280"/>
              <a:chExt cx="857160" cy="1066680"/>
            </a:xfrm>
          </p:grpSpPr>
          <p:sp>
            <p:nvSpPr>
              <p:cNvPr id="292" name=""/>
              <p:cNvSpPr/>
              <p:nvPr/>
            </p:nvSpPr>
            <p:spPr>
              <a:xfrm>
                <a:off x="4925880" y="4310280"/>
                <a:ext cx="64764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25880" y="4310280"/>
                <a:ext cx="180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925880" y="5148360"/>
                <a:ext cx="647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95" name=""/>
              <p:cNvGraphicFramePr/>
              <p:nvPr/>
            </p:nvGraphicFramePr>
            <p:xfrm>
              <a:off x="4716360" y="4697640"/>
              <a:ext cx="228600" cy="21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716360" y="4697640"/>
                        <a:ext cx="228600" cy="2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7" name=""/>
              <p:cNvGraphicFramePr/>
              <p:nvPr/>
            </p:nvGraphicFramePr>
            <p:xfrm>
              <a:off x="5102280" y="5148360"/>
              <a:ext cx="274320" cy="228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9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102280" y="5148360"/>
                        <a:ext cx="27432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99" name=""/>
            <p:cNvSpPr/>
            <p:nvPr/>
          </p:nvSpPr>
          <p:spPr>
            <a:xfrm>
              <a:off x="5383080" y="44769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54480" y="4005360"/>
              <a:ext cx="457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651640" y="4869000"/>
            <a:ext cx="1338120" cy="1128240"/>
            <a:chOff x="5651640" y="4869000"/>
            <a:chExt cx="1338120" cy="1128240"/>
          </a:xfrm>
        </p:grpSpPr>
        <p:grpSp>
          <p:nvGrpSpPr>
            <p:cNvPr id="302" name=""/>
            <p:cNvGrpSpPr/>
            <p:nvPr/>
          </p:nvGrpSpPr>
          <p:grpSpPr>
            <a:xfrm>
              <a:off x="5651640" y="5554440"/>
              <a:ext cx="1338120" cy="442800"/>
              <a:chOff x="5651640" y="5554440"/>
              <a:chExt cx="1338120" cy="442800"/>
            </a:xfrm>
          </p:grpSpPr>
          <p:sp>
            <p:nvSpPr>
              <p:cNvPr id="303" name=""/>
              <p:cNvSpPr/>
              <p:nvPr/>
            </p:nvSpPr>
            <p:spPr>
              <a:xfrm>
                <a:off x="5927760" y="5554440"/>
                <a:ext cx="98568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37120" y="5581440"/>
                <a:ext cx="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37120" y="5810040"/>
                <a:ext cx="1052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306" name=""/>
              <p:cNvGraphicFramePr/>
              <p:nvPr/>
            </p:nvGraphicFramePr>
            <p:xfrm>
              <a:off x="5651640" y="5586120"/>
              <a:ext cx="228600" cy="214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51640" y="5586120"/>
                        <a:ext cx="228600" cy="21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8" name=""/>
              <p:cNvGraphicFramePr/>
              <p:nvPr/>
            </p:nvGraphicFramePr>
            <p:xfrm>
              <a:off x="6184800" y="5810040"/>
              <a:ext cx="228600" cy="18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0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184800" y="5810040"/>
                        <a:ext cx="228600" cy="18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10" name=""/>
            <p:cNvSpPr/>
            <p:nvPr/>
          </p:nvSpPr>
          <p:spPr>
            <a:xfrm>
              <a:off x="6318000" y="52498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65720" y="4869000"/>
              <a:ext cx="60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332000" y="981000"/>
            <a:ext cx="68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按照“物以稀为贵”的市场规则，当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较小时，人们愿意以较多的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|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y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|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交换较少的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;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当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较大时，人们愿意以较少的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|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y |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交换较多的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即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|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y |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/ 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关于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递减的，从而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y / 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关于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递增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536D-CD97-4B33-93E9-835DFECC35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同样，乙的无差别曲线记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为了得到双方满意的交换方案，将双方的无差别曲线画在一起。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59280" y="1413000"/>
          <a:ext cx="2520720" cy="83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13000"/>
                    <a:ext cx="252072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D88D-E279-4D5A-85B7-A839492958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1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黑体"/>
              </a:rPr>
              <a:t>问题的转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2400" spc="-1" strike="noStrike">
                <a:solidFill>
                  <a:srgbClr val="ffcc00"/>
                </a:solidFill>
                <a:latin typeface="华文仿宋"/>
                <a:ea typeface="华文仿宋"/>
              </a:rPr>
              <a:t>假设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地面的凹凸变化是连续的，并且没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大的起伏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此假设下，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b,c,d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均为 </a:t>
            </a:r>
            <a:r>
              <a:rPr b="1" i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连续函数，且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a+c)(b+d)=0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令  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a+c,   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=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且</a:t>
            </a:r>
            <a:r>
              <a:rPr b="1" i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不妨设 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(0)=0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0)&gt;0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341964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7250-EEFC-4E8E-97BA-C833705152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71640" y="1397880"/>
            <a:ext cx="4114800" cy="3416400"/>
            <a:chOff x="2771640" y="1397880"/>
            <a:chExt cx="4114800" cy="3416400"/>
          </a:xfrm>
        </p:grpSpPr>
        <p:sp>
          <p:nvSpPr>
            <p:cNvPr id="320" name=""/>
            <p:cNvSpPr/>
            <p:nvPr/>
          </p:nvSpPr>
          <p:spPr>
            <a:xfrm>
              <a:off x="6352920" y="4354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771640" y="1397880"/>
              <a:ext cx="4114080" cy="3406320"/>
              <a:chOff x="2771640" y="1397880"/>
              <a:chExt cx="4114080" cy="3406320"/>
            </a:xfrm>
          </p:grpSpPr>
          <p:sp>
            <p:nvSpPr>
              <p:cNvPr id="322" name=""/>
              <p:cNvSpPr/>
              <p:nvPr/>
            </p:nvSpPr>
            <p:spPr>
              <a:xfrm>
                <a:off x="3152880" y="4370040"/>
                <a:ext cx="3352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152880" y="2083680"/>
                <a:ext cx="0" cy="2285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96080" y="2495520"/>
                <a:ext cx="0" cy="1828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3152880" y="2495520"/>
                <a:ext cx="274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3304440" y="1778760"/>
                <a:ext cx="2133000" cy="228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098" y="4"/>
                    </a:moveTo>
                    <a:arcTo wR="10800" hR="10800" stAng="-5305049" swAng="53050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098" y="4"/>
                    </a:moveTo>
                    <a:arcTo wR="10800" hR="10800" stAng="-5305049" swAng="5305049"/>
                  </a:path>
                </a:pathLst>
              </a:custGeom>
              <a:noFill/>
              <a:ln w="126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143240" y="1475280"/>
                <a:ext cx="2133360" cy="228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3762360" y="1627560"/>
                <a:ext cx="2132640" cy="228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4752360" y="1397880"/>
                <a:ext cx="2133000" cy="228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95" y="186"/>
                    </a:moveTo>
                    <a:arcTo wR="10800" hR="10800" stAng="-4761284" swAng="47612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95" y="186"/>
                    </a:moveTo>
                    <a:arcTo wR="10800" hR="10800" stAng="-4761284" swAng="4761284"/>
                  </a:path>
                </a:pathLst>
              </a:custGeom>
              <a:noFill/>
              <a:ln w="126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847960" y="19162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71640" y="237312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1" lang="zh-CN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47960" y="42321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19760" y="429408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057640" y="389700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=</a:t>
                </a:r>
                <a:r>
                  <a:rPr b="1" i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cc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2098800" y="2060640"/>
            <a:ext cx="4267080" cy="3580920"/>
            <a:chOff x="2098800" y="2060640"/>
            <a:chExt cx="4267080" cy="3580920"/>
          </a:xfrm>
        </p:grpSpPr>
        <p:sp>
          <p:nvSpPr>
            <p:cNvPr id="336" name=""/>
            <p:cNvSpPr/>
            <p:nvPr/>
          </p:nvSpPr>
          <p:spPr>
            <a:xfrm>
              <a:off x="3623400" y="2594160"/>
              <a:ext cx="21326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7600" y="2594160"/>
              <a:ext cx="21326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04080" y="2746440"/>
              <a:ext cx="21326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98800" y="3051360"/>
              <a:ext cx="213336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32320" y="3432240"/>
              <a:ext cx="106632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720" y="2212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‘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631960" y="251784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08680" y="427032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56000" y="2060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56400" y="48038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99000" y="419436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059280" y="2997360"/>
            <a:ext cx="4722480" cy="2209320"/>
            <a:chOff x="3059280" y="2997360"/>
            <a:chExt cx="4722480" cy="2209320"/>
          </a:xfrm>
        </p:grpSpPr>
        <p:sp>
          <p:nvSpPr>
            <p:cNvPr id="348" name=""/>
            <p:cNvSpPr/>
            <p:nvPr/>
          </p:nvSpPr>
          <p:spPr>
            <a:xfrm>
              <a:off x="3059280" y="383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44920" y="2997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363840" y="3073680"/>
              <a:ext cx="441792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78240" y="316404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25960" y="307368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050000" y="2370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84E2-20CC-47FF-99D0-8C52160E3AE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用      表示两族无差别曲线的切点连成的曲线。假设交换发生在曲线        以外一点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 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甲的通过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无差别曲线与曲线       的交点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对甲方而言，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同一条无差别曲线上，满意度相同，他不会在意交换在这两点中哪一点处发生。对乙方而言，由于无差别曲线的下凸性，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点的满意度高于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点的满意度，乙方更愿意交换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点发生，故交换不会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点发生。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635280" y="1197000"/>
          <a:ext cx="8654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197000"/>
                    <a:ext cx="865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71640" y="549360"/>
          <a:ext cx="86364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4936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995640" y="1844640"/>
          <a:ext cx="79236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1844640"/>
                    <a:ext cx="792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4316-81FA-4053-BD2B-AE9A5C16707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     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双方满意的交换方案在曲线 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AB 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上。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69D6-8C96-4DD4-83E3-ADCE20E80A4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</a:t>
            </a:r>
            <a:r>
              <a:rPr b="0" lang="zh-CN" sz="6600" spc="-1" strike="noStrike">
                <a:solidFill>
                  <a:srgbClr val="ffcc00"/>
                </a:solidFill>
                <a:latin typeface="华文行楷"/>
                <a:ea typeface="华文行楷"/>
              </a:rPr>
              <a:t>The End !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cc00"/>
                </a:solidFill>
                <a:latin typeface="Edwardian Script ITC"/>
              </a:rPr>
              <a:t>       </a:t>
            </a:r>
            <a:r>
              <a:rPr b="0" lang="zh-CN" sz="10000" spc="-1" strike="noStrike">
                <a:solidFill>
                  <a:srgbClr val="ffcc00"/>
                </a:solidFill>
                <a:latin typeface="Edwardian Script ITC"/>
              </a:rPr>
              <a:t>Thanks !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2A1F-51EF-4910-96AE-D84CDE05383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0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于是椅子问题抽象成了如下数学问题：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【已知】  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,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连续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(0)=0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0)&gt;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＝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0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)=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0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)=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【求证】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835280" y="4941720"/>
          <a:ext cx="676908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941720"/>
                    <a:ext cx="67690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6660-C2AA-4C87-8526-7BB8F0A371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【证明】  令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h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 )=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－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h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0 )=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0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－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0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&lt;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椅子转动角度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即把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C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与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互换位置，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有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)=</a:t>
            </a:r>
            <a:r>
              <a:rPr b="0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0)&gt;0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 )=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0)=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从而有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)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)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－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 )&gt;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h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[0, 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 ]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中连续，故存在 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属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0, 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使得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=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=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证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0E98-200F-4AA1-956A-98B30CD8E5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结论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如果地面是连续变化的，则四条腿能够同时落地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思考题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椅子改为长方形椅子，结论如何？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地面为球面一部分时，结论如何？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2937-2C8F-4450-9FB2-399464A1F4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问题总结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椅子问题的解决关键是引入变量</a:t>
            </a:r>
            <a:r>
              <a:rPr b="1" i="1" lang="el-GR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，一是可以用 </a:t>
            </a:r>
            <a:r>
              <a:rPr b="1" i="1" lang="el-GR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表示椅子的位置，二是椅子腿与地面的距离可以表示为 </a:t>
            </a:r>
            <a:r>
              <a:rPr b="1" i="1" lang="el-GR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的连续函数，再利用函数的介值定理使这一问题解决得非常巧妙而简单。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F57C-DF68-4635-B3C0-EFB151FB3C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     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席位分配问题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问题   某学院有 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200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名学生，甲系 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103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名，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系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名，丙系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名，若学生会设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0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代表席位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问应如何分配席位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若席位增加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，又如何分配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3357720"/>
          <a:ext cx="5508360" cy="3180960"/>
        </p:xfrm>
        <a:graphic>
          <a:graphicData uri="http://schemas.openxmlformats.org/drawingml/2006/table">
            <a:tbl>
              <a:tblPr/>
              <a:tblGrid>
                <a:gridCol w="597960"/>
                <a:gridCol w="989280"/>
                <a:gridCol w="1274760"/>
                <a:gridCol w="1278000"/>
                <a:gridCol w="1368360"/>
              </a:tblGrid>
              <a:tr h="50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学生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所占比例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个席位的分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按比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分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结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572000" y="4869000"/>
            <a:ext cx="122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</a:t>
            </a: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10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</a:t>
            </a: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6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</a:t>
            </a: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4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867280" y="3357720"/>
          <a:ext cx="2951280" cy="3166920"/>
        </p:xfrm>
        <a:graphic>
          <a:graphicData uri="http://schemas.openxmlformats.org/drawingml/2006/table">
            <a:tbl>
              <a:tblPr/>
              <a:tblGrid>
                <a:gridCol w="1578240"/>
                <a:gridCol w="1373040"/>
              </a:tblGrid>
              <a:tr h="53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个席位的分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按比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分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结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.8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.6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.5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7740720" y="4581360"/>
            <a:ext cx="93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40720" y="4869000"/>
            <a:ext cx="10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3ED6-0F29-43FB-8B30-D8F4A1D69F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2:35:06Z</dcterms:created>
  <dc:creator>wmd</dc:creator>
  <dc:description/>
  <dc:language>en-US</dc:language>
  <cp:lastModifiedBy>Wu</cp:lastModifiedBy>
  <dcterms:modified xsi:type="dcterms:W3CDTF">2010-03-08T07:17:19Z</dcterms:modified>
  <cp:revision>50</cp:revision>
  <dc:subject/>
  <dc:title>数  学  建  模</dc:title>
</cp:coreProperties>
</file>