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9522-47BA-4738-AE1E-37A1EE0C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FAFF-AF8D-48ED-9737-EDFB40E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8F24-B879-4146-A655-46644E20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AC0C-958C-4943-8F2A-5D53F3BB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4744-693D-4F5A-B43D-BCBA129E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0DD7-3C77-4249-B46E-6249AD1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4A04-FDCC-4F90-9514-BE6D375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4360-1D45-4AE8-89D3-CA7834BC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241F-93E6-4CAC-927B-93E2CE26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A0D9-A0B0-4BC5-B36E-1BE1C7CB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93BB-0AF4-4695-9BD1-221579F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B218-4AB4-49AD-9184-0D4D5CEC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71C8-BDF9-4FE0-88B5-AE0811B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D448-9479-4CE0-B3FA-954AAFF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EC9-9016-43FF-A273-C7E52EC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69F3-DA1B-4801-A363-4E594B33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3C7-0D68-46DE-82E8-6CEF8144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A63C-46A8-4A95-8FD1-635626F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122C-C6FC-4FD2-B753-A0572E4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84FC-7C10-479F-A1C3-B2B6ADA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9A08-EC15-497F-A0F3-2F4A3798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185C-6509-4F06-9BED-5087C38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971B-67D5-4708-BC6B-58A64B1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BA00-6D3B-42D6-86AD-430D9E9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065-6903-4250-8163-D9112BA7F14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CAC-06AD-45F1-8143-74743AFF166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97AF-A7BF-4779-9002-4C5BC3BBF1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某工厂有甲、乙、丙、丁四个车间，生产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六种产品，根据机车性能和以前的生产情况，得知生产每单位产品所需各车间的工作时数、每个车间在一个季度工作时数的上限以及产品的价格，如下表所示。问：每种产品每季度各应生产多少，才能使这个工厂每季度生产总值达到最大？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CB6E-D740-40DE-A9D3-E5F83A27D4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765000"/>
          <a:ext cx="9144000" cy="4419720"/>
        </p:xfrm>
        <a:graphic>
          <a:graphicData uri="http://schemas.openxmlformats.org/drawingml/2006/table">
            <a:tbl>
              <a:tblPr/>
              <a:tblGrid>
                <a:gridCol w="1979640"/>
                <a:gridCol w="792000"/>
                <a:gridCol w="720720"/>
                <a:gridCol w="792360"/>
                <a:gridCol w="792000"/>
                <a:gridCol w="863640"/>
                <a:gridCol w="863640"/>
                <a:gridCol w="23400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产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车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每个车间每季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工作时数上限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0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单价（元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7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6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FB3B-2D79-48DF-8E77-73851F75F6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~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表示每季度生产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单位数，于是它们需满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0040" y="1484280"/>
          <a:ext cx="580392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484280"/>
                    <a:ext cx="5803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49400" y="4118040"/>
          <a:ext cx="29401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118040"/>
                    <a:ext cx="2940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6920" y="5373720"/>
          <a:ext cx="77058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5373720"/>
                    <a:ext cx="77058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E03F-DC96-4758-A8C9-6EBB04FE0E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引入松弛变量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~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化成标准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19000" y="1476360"/>
          <a:ext cx="7794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476360"/>
                    <a:ext cx="7794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00000" y="2349360"/>
          <a:ext cx="7272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349360"/>
                    <a:ext cx="7272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771640" y="5013360"/>
          <a:ext cx="34560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5013360"/>
                    <a:ext cx="3456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7AEC-F601-4079-A2A0-BCEA3F10A8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线性规划问题求解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可行域几何特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满足约束条件的解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可行解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所有可行解构成的集合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可行域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满足目标式的可行解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最优解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可行域是一个凸多边形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如果存在最优解，则最优解必在可行域的顶点处达到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AFE1-AED0-444A-9A0F-582793A63F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纯形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基本思想：从可行域的一个顶点（基本可行解）出发，转换到另一个顶点，并且使目标函数值逐步减小，有限步后可得到最优解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4AA7-933E-484A-A0F3-C42BF3F510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</a:t>
            </a:r>
            <a:r>
              <a:rPr b="1" lang="zh-CN" sz="36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整数规划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变量取整数的线性规划称为整数（线性）规划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割平面法，分支定界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5C25-0930-456E-AFE8-F12FF462A3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0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－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规划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MCM-88B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要把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不同规格的包装箱装到两辆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平板车上去，各包装箱宽、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均相同，但厚度（厘米）与重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公斤）不同。下表给出各包装箱的厚度、重量及数量。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辆平板车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.2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米长的地方可用来装包装箱，载重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。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当地货运限制，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包装箱总数有一个特别限制：该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箱子总厚度不超过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2.7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厘米）。试把包装箱装到平板车上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使得浪费空间最小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42764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BF72-ADDC-45FC-9592-A89CF7E913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549360"/>
          <a:ext cx="8229600" cy="27352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厚度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8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1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8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4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重量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件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0" y="350028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问题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题中所有的包装箱共重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9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吨，而两辆平板车只能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吨，因此不能都装下，问题是装哪些箱子，使剩余空间最小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9576-787C-4150-A28E-E81CBA346C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建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第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辆车装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C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箱子的个数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1,2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1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然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箱数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重量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厚度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特别约束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771640" y="2060640"/>
          <a:ext cx="17812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060640"/>
                    <a:ext cx="1781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411280" y="2781360"/>
          <a:ext cx="5832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81360"/>
                    <a:ext cx="5832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195640" y="3645000"/>
          <a:ext cx="680076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645000"/>
                    <a:ext cx="680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40000" y="4437000"/>
          <a:ext cx="554508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4437000"/>
                    <a:ext cx="554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460600" y="5589720"/>
          <a:ext cx="595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0600" y="5589720"/>
                    <a:ext cx="595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BC91-94EE-4520-BD4B-19F117BA08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五讲  </a:t>
            </a:r>
            <a:r>
              <a:rPr b="1" lang="zh-CN" sz="4800" spc="-1" strike="noStrike">
                <a:solidFill>
                  <a:srgbClr val="e5e5ff"/>
                </a:solidFill>
                <a:latin typeface="Garamond"/>
                <a:ea typeface="黑体"/>
              </a:rPr>
              <a:t>规划模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【主要内容】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介绍线性规划模型、非线性规划模型及动态规划模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【主要目的】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了解规划问题的建模与求解，重点在模型的建立与结果的分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BC6A-89B0-4826-905E-1F59F8CDE3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目标函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工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某车间有四项工作需要完成，现已找到四个人做这些工作，经过试用，得到这四个人做每一项工作的相对生产率指数，列表如下 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定每个人只能分派一项工作，并希望分派后总的生产率最高，应如何分派工作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68280"/>
          <a:ext cx="896472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96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ADD7-2827-4E6C-B53A-9ED7FA8AEA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6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404640"/>
          <a:ext cx="7488360" cy="3279600"/>
        </p:xfrm>
        <a:graphic>
          <a:graphicData uri="http://schemas.openxmlformats.org/drawingml/2006/table">
            <a:tbl>
              <a:tblPr/>
              <a:tblGrid>
                <a:gridCol w="1855800"/>
                <a:gridCol w="1403280"/>
                <a:gridCol w="1432080"/>
                <a:gridCol w="1360440"/>
                <a:gridCol w="1436760"/>
              </a:tblGrid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工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人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4365720"/>
          <a:ext cx="526752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365720"/>
                    <a:ext cx="526752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FDCC-DBB2-4A47-B814-2530B66D91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个人做一项工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项工作有一人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780000" y="549360"/>
          <a:ext cx="4352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549360"/>
                    <a:ext cx="4352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708360" y="1916280"/>
          <a:ext cx="442764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916280"/>
                    <a:ext cx="44276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76120" y="4797360"/>
          <a:ext cx="85899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120" y="4797360"/>
                    <a:ext cx="8589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655C-0439-4FCC-A66A-A172F5E352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2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非线性规划模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Nonlinear Programming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飞行管理问题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UMCM95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高空中一个边长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6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公里的正方形区域内，经常有若干架飞机作水平飞行。区域内每架飞机的位置和速度均由计算机记录其数据。当一架欲进入该区域的飞机到达区域边缘时，要立即计算并判断其是否会与区域内的飞机碰撞。如果会碰撞，则要计算如何调整各架（包括新进入的）飞机飞行的方向角，以避免碰撞。现假定条件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2701-C2A7-474D-B46A-3806339545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碰撞的标准为任意两架飞机的距离大于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每架飞机飞行方向角调整的幅度不应超过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度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所有飞机飞行速度均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小时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欲进入飞机在到达区域边缘时，与区域内飞机的距离应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6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以上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多需考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架飞机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必考虑飞机离开此区域后的状况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请你建立数学模型，对以下数据进行计算（方向角误差不超过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0.0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度），要求飞机飞行方向角调整的幅度尽量小。（数据略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1967-6883-405F-A777-C4AA47ABDC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0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0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模型建立与求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一：设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架飞机在调整时的 方向角为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调整角度为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el-GR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设任意两架飞机在区域内的最短距离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那么问题的非线性规划模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03640" y="2637000"/>
          <a:ext cx="208908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637000"/>
                    <a:ext cx="2089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03280" y="4005360"/>
          <a:ext cx="61930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005360"/>
                    <a:ext cx="61930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564000" y="5013360"/>
          <a:ext cx="1655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013360"/>
                    <a:ext cx="1655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38D8-6A49-4660-B594-AA60DF4080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法：能量梯度法、惩罚函数法、序列无约束最小 化方法、逐步逼近搜索法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二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51280" y="2133720"/>
          <a:ext cx="20890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0890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484360" y="3284640"/>
            <a:ext cx="6659640" cy="31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7419-5300-43CB-82F1-635B79009C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利用相对运动的方法得到以上模型，再简化为线性规划问题求解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492360" y="692280"/>
          <a:ext cx="1584360" cy="43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692280"/>
                    <a:ext cx="15843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476360" y="1484280"/>
          <a:ext cx="568800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484280"/>
                    <a:ext cx="568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851280" y="2637000"/>
          <a:ext cx="144144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2637000"/>
                    <a:ext cx="14414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708360" y="2637000"/>
          <a:ext cx="12240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2637000"/>
                    <a:ext cx="1224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708360" y="3500280"/>
          <a:ext cx="195120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3500280"/>
                    <a:ext cx="1951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564000" y="4365720"/>
          <a:ext cx="23032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365720"/>
                    <a:ext cx="2303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819C-B69C-449F-BD02-FCF4417D70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2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动态规划模型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Dynamic Programming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是解决多阶段决策过程最优化的一种方法。多阶段决策问题，是指一个问题可以分为若干个阶段， 每一阶段需要做出决策，而一个阶段的决策，常常会影响下一个阶段的决策。要在各个阶段决定一个最优决策， 使整个系统达到最佳的效果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通过以下一个典型例子，说明如何建立动态规划模型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6309-02D6-472D-8CCE-4821A16B7C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 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线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32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7BAF-156F-4D6A-8227-2E8D86EE5D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线性规划模型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Linear Programming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建立模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：求多变量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线性函数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线性约束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条件下的最优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一般形式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03640" y="3860640"/>
          <a:ext cx="27367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860640"/>
                    <a:ext cx="2736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797360"/>
          <a:ext cx="6802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6802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344760" y="5877000"/>
          <a:ext cx="29606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4760" y="5877000"/>
                    <a:ext cx="2960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2D7A-9CFD-45D3-81EE-7FC19FF5C0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先引入几个概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状态——每一阶段的起点位置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决策——由一个状态变到另一个状态的选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第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阶段的状态，称为状态变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所作出的决策，称为决策变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第 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阶段中所有允许决策的集合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状态转移方程——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+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，采取决策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转移到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+1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效益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到终点的最优效益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439A-5282-42A7-8404-B63ECD875E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86e0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最短路问题的动态规划最优化原理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一条最短路线经过状态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那么，这条路线上从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到终点的一段，是从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到终点的所有路线中最短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逆序法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回溯法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后向前逐步求出各点到终点的最佳路线，最后得到由起点到终点的最短路线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FB32-A430-4FDC-B1DC-6A69426062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问题的动态规划模型，归纳为下述递推公式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①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最后一段开始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4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,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三个状态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3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状态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 1,2,3,4 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每个状态有两个决策可选择。分别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各状态出发到终点的效益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：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8360" y="1484280"/>
          <a:ext cx="82072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07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340000" y="4149720"/>
          <a:ext cx="47530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4753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F8FD-F195-4A1A-9FDC-82963E5FC1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8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7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32000" y="620640"/>
          <a:ext cx="63356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20640"/>
                    <a:ext cx="6335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2000" y="2060640"/>
          <a:ext cx="29685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060640"/>
                    <a:ext cx="2968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916360" y="2852640"/>
          <a:ext cx="28796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852640"/>
                    <a:ext cx="287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32000" y="3573360"/>
          <a:ext cx="64087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573360"/>
                    <a:ext cx="6408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4797360"/>
          <a:ext cx="306072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4797360"/>
                    <a:ext cx="3060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987640" y="5589720"/>
          <a:ext cx="259236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5589720"/>
                    <a:ext cx="2592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130E-9015-47B3-8769-7231B7555E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619280" y="476280"/>
          <a:ext cx="6048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6280"/>
                    <a:ext cx="604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619280" y="1844640"/>
          <a:ext cx="53960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844640"/>
                    <a:ext cx="5396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24080" y="2708280"/>
          <a:ext cx="53402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4080" y="2708280"/>
                    <a:ext cx="53402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19280" y="3573360"/>
          <a:ext cx="61927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3573360"/>
                    <a:ext cx="6192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19280" y="4797360"/>
          <a:ext cx="3960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797360"/>
                    <a:ext cx="3960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478320" y="5589720"/>
          <a:ext cx="23749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8320" y="5589720"/>
                    <a:ext cx="2374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C87D-6687-4CB2-855B-80FD735D05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③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 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两个状态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B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B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每个状态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决策可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03280" y="1341360"/>
          <a:ext cx="61214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61214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76360" y="2852640"/>
          <a:ext cx="324180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852640"/>
                    <a:ext cx="3241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627280" y="3441600"/>
          <a:ext cx="2736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441600"/>
                    <a:ext cx="2736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58920" y="4076640"/>
          <a:ext cx="626436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076640"/>
                    <a:ext cx="626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488960" y="5805360"/>
          <a:ext cx="53024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88960" y="5805360"/>
                    <a:ext cx="53024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6CDE-9383-4CAB-A74D-F8EBE75460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④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径长为：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916360" y="476280"/>
          <a:ext cx="324000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76280"/>
                    <a:ext cx="32400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916360" y="1268280"/>
          <a:ext cx="32400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268280"/>
                    <a:ext cx="3240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63640" y="2421000"/>
          <a:ext cx="60483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2421000"/>
                    <a:ext cx="6048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124000" y="3716280"/>
          <a:ext cx="36720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3716280"/>
                    <a:ext cx="3672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27280" y="4653000"/>
          <a:ext cx="2951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4653000"/>
                    <a:ext cx="2951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7907-774B-4BC6-B73A-E8852F287B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500"/>
                            </p:stCondLst>
                            <p:childTnLst>
                              <p:par>
                                <p:cTn id="9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</a:t>
            </a: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Bellman </a:t>
            </a: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动态规划最优化原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整个过程的最优策略应具有性质：无论过去的状态和决策如何，对当前状态而言，余下的诸决策必须构成最优策略。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57E4-DAEF-4D5F-B022-F075B9CC89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的特点是将问题按时间或空间特征而分成若干个阶段，从而将整个决策过程转化为多阶段的决策问题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某些静态决策问题可以引入时间因素，将问题转化为多阶段的决策问题，然后利用动态规划方法求解。以上最短路问题的解决就是这样的一个例子，以下再举一个例子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C06F-F988-4425-9979-285180F542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资源分配问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有某种资源总数量为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用于生产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产品。如果分配数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于生产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产品，其效益为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问应如何分配资源使生产总效益最大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静态模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1397160"/>
            <a:ext cx="6096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050920" y="3716280"/>
          <a:ext cx="4608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716280"/>
                    <a:ext cx="4608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419A-EBCB-41B7-8D2B-E852C169DE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标准形式：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56000" y="1341360"/>
          <a:ext cx="374472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744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11280" y="2759040"/>
          <a:ext cx="60768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59040"/>
                    <a:ext cx="60768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27280" y="4365720"/>
          <a:ext cx="296064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4365720"/>
                    <a:ext cx="2960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A72D-6257-441B-A23A-E9CF49856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非线性规划问题，应用动态规划方法求解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示分配用于生产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至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种产品的资源数量，即状态转移方程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＋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－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＋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最大效益。则逆序递推方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3608280"/>
          <a:ext cx="88930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608280"/>
                    <a:ext cx="889308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ABC0-2FE2-41D7-AC48-90A3BC5BEF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c00"/>
                </a:solidFill>
                <a:latin typeface="Edwardian Script ITC"/>
              </a:rPr>
              <a:t>     </a:t>
            </a:r>
            <a:r>
              <a:rPr b="0" lang="en-US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anks !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7B77-456F-4661-B72D-5AF18F8144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说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任意线性规划问题可化为标准形式。具体方式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标准化 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约束条件标准化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约束条件中有不等式约束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引入新变量            （称为松弛变量），则以上两式等价于以下两式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0" y="1628640"/>
          <a:ext cx="2519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28640"/>
                    <a:ext cx="2519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84360" y="3429000"/>
          <a:ext cx="35467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3429000"/>
                    <a:ext cx="354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84360" y="4005360"/>
          <a:ext cx="352764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005360"/>
                    <a:ext cx="35276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32000" y="4724280"/>
          <a:ext cx="155268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724280"/>
                    <a:ext cx="1552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EB78-09A4-4054-9C9A-94C33A9BA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由变量标准化： 若变量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无约束，可引入两个新变量             ，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以下我们只考虑标准形式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63640" y="476280"/>
          <a:ext cx="5904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6280"/>
                    <a:ext cx="5904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35280" y="1484280"/>
          <a:ext cx="59054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484280"/>
                    <a:ext cx="5905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95640" y="3284640"/>
          <a:ext cx="144000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3284640"/>
                    <a:ext cx="1440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95640" y="4292640"/>
          <a:ext cx="4271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4292640"/>
                    <a:ext cx="4271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A478-9F98-4DED-8660-1ED992F510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矩阵形式表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一般要求，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03640" y="549360"/>
          <a:ext cx="237636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49360"/>
                    <a:ext cx="237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835280" y="1484280"/>
          <a:ext cx="2789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484280"/>
                    <a:ext cx="2789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76720" y="2349360"/>
          <a:ext cx="10080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349360"/>
                    <a:ext cx="100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11600" y="2995560"/>
          <a:ext cx="3014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1600" y="2995560"/>
                    <a:ext cx="3014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F1B8-8BFF-4D0F-AC03-23D7C0E6E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某工厂制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，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需用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用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工作日；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需用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用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工作日。已知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分别获利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70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元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20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元。现该厂只有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6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工作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可以利用，问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各应生产多少吨才能获利最大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表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 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的计划生产数（单位：吨）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示利润（单位：千元），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 7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12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7815-EECB-4B08-ACC8-8765DCA98E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煤量为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电量为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工作日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10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于是得到线性规划模型为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16360" y="3068640"/>
          <a:ext cx="30002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068640"/>
                    <a:ext cx="3000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00000" y="3860640"/>
          <a:ext cx="5210280" cy="22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860640"/>
                    <a:ext cx="52102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B312-1ACD-408E-BA37-E342FE43B0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秋　风　辞</cp:lastModifiedBy>
  <dcterms:modified xsi:type="dcterms:W3CDTF">2008-03-24T07:30:11Z</dcterms:modified>
  <cp:revision>73</cp:revision>
  <dc:subject/>
  <dc:title>数  学  建  模</dc:title>
</cp:coreProperties>
</file>