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26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png" ContentType="image/png"/>
  <Override PartName="/ppt/media/image10.wmf" ContentType="image/x-wmf"/>
  <Override PartName="/ppt/media/image2.png" ContentType="image/png"/>
  <Override PartName="/ppt/media/image30.wmf" ContentType="image/x-wmf"/>
  <Override PartName="/ppt/media/image31.wmf" ContentType="image/x-wmf"/>
  <Override PartName="/ppt/media/image6.wmf" ContentType="image/x-wmf"/>
  <Override PartName="/ppt/media/image3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C6E4-A79A-41D9-9F24-CCFD7346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8E3B-A5EA-43BC-9D79-9D0B291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ACCF-1C93-4DE4-9C9A-104BD6CC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3850-4C85-4EAB-A3CD-21F7E35F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0C15-56A4-4A09-9487-6AEA334A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F14B-7D82-453F-9CD8-7BC84D2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DB4E-BCA8-4C22-A8A7-F0DAD192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58F-B8B2-4CBE-A992-06B7C3B7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1FBE-BAB4-449F-A3D7-1CAF5C69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4D17-EFD8-4749-8989-8B4383D4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B1CC-C059-44F6-AD44-5DCAD7E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5FD7-BB73-41D2-B2B7-A3965128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F17E-015E-47B2-ACB5-C08B50D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F577-54DB-4108-9277-46ECFA8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51F-9E7F-4F8D-978E-8ADA6275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6208-0BA8-46D8-AE32-87E392A2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D27B-A8B1-4EB0-8D6B-D206670C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54EF-E5D7-4262-A795-FDA22CE0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1BD9-163F-4A53-9705-EA10548C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AF5F-A0F2-4E27-9AF0-A35DB5CF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613C-E81F-4BD4-B870-FBFE09C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A3FDD-9359-402B-A960-94B3DAD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D764-9A07-4032-8AE3-A61D704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F228-B60F-4604-B60E-E398469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D210-6ACC-44F6-B93E-CBF15900D74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259-25C0-4E07-8647-153481268D0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8532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数  学  建  模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7705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——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</a:rPr>
              <a:t>从自然走向理性之路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F5FE-72D5-4CBB-A7E2-2F7226D200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468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⑤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3) = 22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2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⑥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4) = min {T(4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30, 22+17}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22+23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3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7, 22+31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只有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改变了临时标号，令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⑦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4) = 30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30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⑧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4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4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30+17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4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3, 30+23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⑨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5) = 41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41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⑩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5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3, 41+18} = 5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所以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6) = 5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短路径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→3 →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 或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→4→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285F-32C6-4334-8F9D-4FD2518D41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再来看开始的最短路线问题的例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获得永久性标号的顶点顺序为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B2(A) , B1(A) , C1(B1) , C2(B1), C4(B2), C3(B2), D1(C2),  D2(C2), D3(C3\C4),  E(D1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最短路径为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A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B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C2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D1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905440" cy="31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375F-5DC2-4BC1-BD26-BC4DD5C25D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10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动态规划法与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，都假定弧的长度是非负的，但在某些问题中，有时会出现长度为负值的情况，可采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称临时标号为未着色标号，永久性标号为着色标号。所谓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For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，只要对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算法做两点改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Garamond"/>
              </a:rPr>
              <a:t>◆</a:t>
            </a:r>
            <a:r>
              <a:rPr b="1" lang="zh-CN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k)+d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时，不仅对未着色点    进行，对着色点也要进行。已着色标号也可以减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Garamond"/>
              </a:rPr>
              <a:t>◆</a:t>
            </a:r>
            <a:r>
              <a:rPr b="1" lang="zh-CN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仅在所有顶点都已着色，而且下一步不能使任一顶点的标号减小时，算法才终止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E2CA-D6B8-42D4-8E50-4819FAC9A5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最大流问题及其算法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大流问题是网络理论中的一个经典问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有向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=(V,A,C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C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Garamond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(&gt;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弧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(i ,j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的容量（道路最大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过量，管道最大流量，送电线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最大送电量）。假定在网络中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点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处有大批货物要通过网络运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送到另一点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.  s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称为网络的源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称为网络的汇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4942-2651-4D8C-8780-BB76CF7961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个物质运输方案，为定义在弧集合上的一个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满足：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流平衡条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                                              （容量限制条件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此时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一个可行流。                        称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流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流量最大的可行流称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大流。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56000" y="1989000"/>
          <a:ext cx="352872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89000"/>
                    <a:ext cx="35287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54240" y="2906640"/>
          <a:ext cx="253044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4240" y="2906640"/>
                    <a:ext cx="2530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95640" y="3573360"/>
          <a:ext cx="17258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3573360"/>
                    <a:ext cx="1725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F26A-0654-4F8D-AF21-D64D59571F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设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一个可行流，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零弧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C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饱和弧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以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起点，以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终点的路，如果它的前向弧都不是饱和弧，后向弧都不是零弧，则称它为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增广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如果可行流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有增广路，那么 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不是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43000" y="3789360"/>
            <a:ext cx="666900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D7E7-C239-4716-A8E6-F315698207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若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增广路，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前向弧集合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后向弧集合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A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由增广路的定义知，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&gt;0 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定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增广路定理）设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网络的可行流，则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最大流，当且仅当不存在关于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增广路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68360" y="1413000"/>
          <a:ext cx="35719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413000"/>
                    <a:ext cx="35719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68360" y="2276640"/>
          <a:ext cx="355932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276640"/>
                    <a:ext cx="35593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11440" y="3240000"/>
          <a:ext cx="24829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1440" y="3240000"/>
                    <a:ext cx="24829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4AD2-3DBC-4651-B7B6-E80513AB47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定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整数定理）若弧容量都是正整数，则一定存在一个整数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最大流的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Ford-Fulkerson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算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基本步骤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0 :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出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一个可行流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 :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一条关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增广路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若没有增广路，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最大流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op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 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出增广路的</a:t>
            </a:r>
            <a:r>
              <a:rPr b="1" i="1" lang="el-GR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值，并对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进行增广得到新的可行流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87ED-9D65-4333-8ADA-92B0337BA9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9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4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算法的关键是求增广路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标号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0 :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任意求出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的一个可行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通常取零流。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1 :  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求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增广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Garamond"/>
              </a:rPr>
              <a:t>1.0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以标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且</a:t>
            </a:r>
            <a:r>
              <a:rPr b="1" i="1" lang="el-GR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δ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) =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规定</a:t>
            </a:r>
            <a:r>
              <a:rPr b="1" i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为未检查顶点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仿宋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如果所有已标号顶点都已检查过，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否则，任取一个已标号未检查顶点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检查所有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关联的弧。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4264-B37A-4D69-9C53-41DDF5B28C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6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9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前向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),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未标号，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&lt;  C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并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)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可增加的流量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后向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j 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未标号，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&gt;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给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－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并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j, 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上可减少的流量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当所有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关联的弧都检查完毕，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已检查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.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如果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已经得到标号，则一条增广路已经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到，转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；否则，返回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。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08360" y="2852640"/>
          <a:ext cx="2963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852640"/>
                    <a:ext cx="2963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708360" y="1052640"/>
          <a:ext cx="316872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052640"/>
                    <a:ext cx="31687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EC545-C001-4EED-9AC2-E3914C1D37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1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4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第六讲  网络模型与统筹模型</a:t>
            </a: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【主要内容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介绍网络模型中的最短路算法及最大流算法，统筹模型中的关键轨道方法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Garamond"/>
              </a:rPr>
              <a:t>【主要目的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了解基本网络模型的算法及其应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F4B5-DD07-4C1A-B16F-BA601A1E04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：（修改增广路上的流值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在增广路上，对前向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i , j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),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对后向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j 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令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tep 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：（结束）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是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中的最大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59280" y="1844640"/>
          <a:ext cx="20271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844640"/>
                    <a:ext cx="2027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76720" y="3357720"/>
          <a:ext cx="174456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357720"/>
                    <a:ext cx="17445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41CD0-A311-4D2B-B069-CA501A6F11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6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121440" cy="273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3405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标号顺序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720" y="3212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916360" y="3213000"/>
          <a:ext cx="33526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213000"/>
                    <a:ext cx="33526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7488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3DC9-45C5-432D-A37F-219A9C8445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Garamond"/>
                <a:ea typeface="华文行楷"/>
              </a:rPr>
              <a:t>统 筹 模 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  <a:ea typeface="华文仿宋"/>
              </a:rPr>
              <a:t>统筹方法是运筹学的重要内容。所谓统筹，就是对工业、农业、科学研究等各项实际活动，按照总的任务预定目标，例如完成最快，开支最省等，对各个相关因素进行统一筹划，合理安排，使得预定任务能最有效的完成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F807-ED71-4CEC-8B9A-E512AD077C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PER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网络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规划评审技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Program Evaluation and Review Techniqu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一项任务通常可分成若干个独立的子任务，这些子任务称为</a:t>
            </a:r>
            <a:r>
              <a:rPr b="1" lang="zh-CN" sz="2400" spc="-1" strike="noStrike">
                <a:solidFill>
                  <a:srgbClr val="eec6b0"/>
                </a:solidFill>
                <a:latin typeface="Garamond"/>
                <a:ea typeface="华文仿宋"/>
              </a:rPr>
              <a:t>工序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。一般情况下，不同工序都存在先后顺序，每道工序所需的时间也未必相同。可用一个有向图来描述完成任务的过程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①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以一条有向边来表示一道工序，有向边上的权为此工序的（时间）长度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②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有向边的起点与终点分别表示相应工序的开工与完工时间结点，称为</a:t>
            </a:r>
            <a:r>
              <a:rPr b="1" lang="zh-CN" sz="2400" spc="-1" strike="noStrike">
                <a:solidFill>
                  <a:srgbClr val="eec6b0"/>
                </a:solidFill>
                <a:latin typeface="Garamond"/>
                <a:ea typeface="华文仿宋"/>
              </a:rPr>
              <a:t>事项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③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前一工序的完工时间即为下一工序的开工时间。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01FC-77F2-4793-B48F-1624CB03AD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PERT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网络是有向图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），满足以下条件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①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中存在起始顶点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与终止顶点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②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中无有向回路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③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对于任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є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v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在某条从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s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到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t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有向道路上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十项工序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a, b, …, m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655344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9B6F9-85A9-416E-86D9-C0A74A1502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为叙述方便，引入几个参数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j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结点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实现时间，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工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开始时间，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工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, j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早可能结束时间，即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S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+ 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 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54320" y="1990800"/>
          <a:ext cx="370044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1990800"/>
                    <a:ext cx="3700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8820-D8C6-4D0E-82D3-605698754A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1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5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一任务如图，求完成整个任务的最短时间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【解】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0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,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2)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+ 2 = 4 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2 + 8 =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824360" cy="23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4C30-D874-434F-9CE0-79932677A8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2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6" dur="1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1" dur="10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5" dur="10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9" dur="10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3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8,4} = 8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8 + 8 = 16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4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16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6 + 3 = 19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6 + 4 = 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5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10,19} = 19 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19 + 3 = 2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6)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max 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6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= max{20,22} = 2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完成任务最短时间为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F520C-9D80-4AD6-B9A1-4CE64A9E96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0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3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8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2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7" dur="10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92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最长路径为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→3 → 4 → 5 → 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关键轨道不一定唯一。欲缩短工期，必须把每条关键轨道上至少一条边的长度缩短，而非关键轨道上的边长即使缩短，也未必能够缩短工期。此方法也称为关键轨道方法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CPM ( Critical Path Method 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1557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476280"/>
            <a:ext cx="57456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2565360"/>
            <a:ext cx="57636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7628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2565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148428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1" idx="6"/>
            <a:endCxn id="213" idx="2"/>
          </p:cNvCxnSpPr>
          <p:nvPr/>
        </p:nvCxnSpPr>
        <p:spPr>
          <a:xfrm>
            <a:off x="3778200" y="728280"/>
            <a:ext cx="1370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4"/>
            <a:endCxn id="212" idx="0"/>
          </p:cNvCxnSpPr>
          <p:nvPr/>
        </p:nvCxnSpPr>
        <p:spPr>
          <a:xfrm>
            <a:off x="3490920" y="979200"/>
            <a:ext cx="2160" cy="158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2" idx="6"/>
            <a:endCxn id="214" idx="2"/>
          </p:cNvCxnSpPr>
          <p:nvPr/>
        </p:nvCxnSpPr>
        <p:spPr>
          <a:xfrm>
            <a:off x="3779640" y="2817360"/>
            <a:ext cx="1369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5"/>
            <a:endCxn id="212" idx="2"/>
          </p:cNvCxnSpPr>
          <p:nvPr/>
        </p:nvCxnSpPr>
        <p:spPr>
          <a:xfrm>
            <a:off x="2049480" y="1987560"/>
            <a:ext cx="1154880" cy="830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0" idx="7"/>
            <a:endCxn id="211" idx="2"/>
          </p:cNvCxnSpPr>
          <p:nvPr/>
        </p:nvCxnSpPr>
        <p:spPr>
          <a:xfrm flipV="1">
            <a:off x="2049480" y="727920"/>
            <a:ext cx="1154880" cy="90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6"/>
            <a:endCxn id="215" idx="3"/>
          </p:cNvCxnSpPr>
          <p:nvPr/>
        </p:nvCxnSpPr>
        <p:spPr>
          <a:xfrm flipV="1">
            <a:off x="5653080" y="1913760"/>
            <a:ext cx="1442160" cy="90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6"/>
            <a:endCxn id="215" idx="1"/>
          </p:cNvCxnSpPr>
          <p:nvPr/>
        </p:nvCxnSpPr>
        <p:spPr>
          <a:xfrm>
            <a:off x="5651640" y="728640"/>
            <a:ext cx="1443600" cy="8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2260080" y="90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0000" y="2349360"/>
            <a:ext cx="2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0" idx="5"/>
            <a:endCxn id="212" idx="2"/>
          </p:cNvCxnSpPr>
          <p:nvPr/>
        </p:nvCxnSpPr>
        <p:spPr>
          <a:xfrm>
            <a:off x="2049480" y="1987560"/>
            <a:ext cx="1154880" cy="830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2" idx="6"/>
            <a:endCxn id="214" idx="2"/>
          </p:cNvCxnSpPr>
          <p:nvPr/>
        </p:nvCxnSpPr>
        <p:spPr>
          <a:xfrm>
            <a:off x="3779640" y="2817360"/>
            <a:ext cx="1369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4" idx="0"/>
            <a:endCxn id="213" idx="4"/>
          </p:cNvCxnSpPr>
          <p:nvPr/>
        </p:nvCxnSpPr>
        <p:spPr>
          <a:xfrm flipV="1">
            <a:off x="5400360" y="980280"/>
            <a:ext cx="1080" cy="1585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4" idx="0"/>
            <a:endCxn id="213" idx="4"/>
          </p:cNvCxnSpPr>
          <p:nvPr/>
        </p:nvCxnSpPr>
        <p:spPr>
          <a:xfrm flipV="1">
            <a:off x="5400360" y="980280"/>
            <a:ext cx="1080" cy="158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3" idx="6"/>
            <a:endCxn id="215" idx="1"/>
          </p:cNvCxnSpPr>
          <p:nvPr/>
        </p:nvCxnSpPr>
        <p:spPr>
          <a:xfrm>
            <a:off x="5651640" y="728640"/>
            <a:ext cx="1443600" cy="82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3463560" y="14446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76440" y="278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76440" y="404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40080" y="1484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48080" y="10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43200" y="2309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72360" y="342900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67640" y="33577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Garamond"/>
              </a:rPr>
              <a:t>关键轨道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4ABF-7592-46E5-A060-AE7B2C2BBB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6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例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上海市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年竞赛题）现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件工件等待在一台机车上加工，某些工件的加工必须安排在另一些工件完工以后才能开始，各工件的加工时间及先期必须完成的工件号由下表给出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2708280"/>
          <a:ext cx="9144000" cy="3684600"/>
        </p:xfrm>
        <a:graphic>
          <a:graphicData uri="http://schemas.openxmlformats.org/drawingml/2006/table">
            <a:tbl>
              <a:tblPr/>
              <a:tblGrid>
                <a:gridCol w="671400"/>
                <a:gridCol w="635040"/>
                <a:gridCol w="601560"/>
                <a:gridCol w="576360"/>
                <a:gridCol w="647640"/>
                <a:gridCol w="576360"/>
                <a:gridCol w="55872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工件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加工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t</a:t>
                      </a:r>
                      <a:r>
                        <a:rPr b="1" i="1" lang="zh-CN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华文仿宋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  <a:ea typeface="华文仿宋"/>
                        </a:rPr>
                        <a:t>前期工件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华文仿宋"/>
                          <a:ea typeface="华文仿宋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71F3-79EA-4E9B-8C44-C535BCD9F8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4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ffcc00"/>
                </a:solidFill>
                <a:latin typeface="Garamond"/>
                <a:ea typeface="华文行楷"/>
              </a:rPr>
              <a:t>最短路问题及其算法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在动态规划模型中我们讲了一个最短路线问题的例子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最短路径： 路径长为：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14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事实上，最短路问题的应用背景很广，如网络设计、运输方案、工作计划等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19280" y="1844640"/>
            <a:ext cx="6192720" cy="28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AFF3-FAF3-4967-BD2F-3A5DF12F6D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若给出一个加工顺序，则确定了每个工件的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完工时间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包括等待与加工两个阶段），试设计一个满足条件的加工顺序，使各个工件的完工时间之和最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若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号工件紧接着第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号工件完工后开工，机车需要花费的准备时间是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试设计一个满足条件的加工顺序，使机车花费的总时间最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340000" y="3500280"/>
          <a:ext cx="36972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500280"/>
                    <a:ext cx="36972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42B1-D308-41C8-B4A5-B82418274A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解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]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 构造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ERT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如下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3213000"/>
            <a:ext cx="43164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720" y="314172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00720" y="242100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393372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51664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16360" y="2421000"/>
            <a:ext cx="5050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933720"/>
            <a:ext cx="50508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551664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5516640"/>
            <a:ext cx="5047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3933720"/>
            <a:ext cx="5029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2421000"/>
            <a:ext cx="5029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1052640"/>
            <a:ext cx="5029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458136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1773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48" idx="7"/>
            <a:endCxn id="263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8" idx="5"/>
            <a:endCxn id="262" idx="1"/>
          </p:cNvCxnSpPr>
          <p:nvPr/>
        </p:nvCxnSpPr>
        <p:spPr>
          <a:xfrm>
            <a:off x="1052280" y="3581280"/>
            <a:ext cx="857880" cy="107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7"/>
            <a:endCxn id="261" idx="2"/>
          </p:cNvCxnSpPr>
          <p:nvPr/>
        </p:nvCxnSpPr>
        <p:spPr>
          <a:xfrm flipV="1">
            <a:off x="2265120" y="1304640"/>
            <a:ext cx="79452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3" idx="5"/>
            <a:endCxn id="260" idx="2"/>
          </p:cNvCxnSpPr>
          <p:nvPr/>
        </p:nvCxnSpPr>
        <p:spPr>
          <a:xfrm>
            <a:off x="2265120" y="2203200"/>
            <a:ext cx="794520" cy="47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5"/>
            <a:endCxn id="259" idx="1"/>
          </p:cNvCxnSpPr>
          <p:nvPr/>
        </p:nvCxnSpPr>
        <p:spPr>
          <a:xfrm>
            <a:off x="2265120" y="2203560"/>
            <a:ext cx="867240" cy="180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3" idx="4"/>
            <a:endCxn id="258" idx="1"/>
          </p:cNvCxnSpPr>
          <p:nvPr/>
        </p:nvCxnSpPr>
        <p:spPr>
          <a:xfrm>
            <a:off x="2087640" y="2276280"/>
            <a:ext cx="1046880" cy="33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2" idx="6"/>
            <a:endCxn id="257" idx="1"/>
          </p:cNvCxnSpPr>
          <p:nvPr/>
        </p:nvCxnSpPr>
        <p:spPr>
          <a:xfrm>
            <a:off x="2340000" y="4833720"/>
            <a:ext cx="2449800" cy="75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1" idx="6"/>
            <a:endCxn id="251" idx="1"/>
          </p:cNvCxnSpPr>
          <p:nvPr/>
        </p:nvCxnSpPr>
        <p:spPr>
          <a:xfrm>
            <a:off x="3562200" y="1304640"/>
            <a:ext cx="2812320" cy="118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1"/>
            <a:endCxn id="261" idx="4"/>
          </p:cNvCxnSpPr>
          <p:nvPr/>
        </p:nvCxnSpPr>
        <p:spPr>
          <a:xfrm flipH="1" flipV="1">
            <a:off x="3311280" y="1556640"/>
            <a:ext cx="1480320" cy="245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0" idx="7"/>
            <a:endCxn id="254" idx="3"/>
          </p:cNvCxnSpPr>
          <p:nvPr/>
        </p:nvCxnSpPr>
        <p:spPr>
          <a:xfrm flipV="1">
            <a:off x="3489120" y="1482120"/>
            <a:ext cx="1300680" cy="101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0" idx="6"/>
            <a:endCxn id="255" idx="2"/>
          </p:cNvCxnSpPr>
          <p:nvPr/>
        </p:nvCxnSpPr>
        <p:spPr>
          <a:xfrm>
            <a:off x="3562200" y="267300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0" idx="6"/>
            <a:endCxn id="252" idx="1"/>
          </p:cNvCxnSpPr>
          <p:nvPr/>
        </p:nvCxnSpPr>
        <p:spPr>
          <a:xfrm>
            <a:off x="3562200" y="2673000"/>
            <a:ext cx="2813760" cy="1335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0" idx="6"/>
            <a:endCxn id="258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59" idx="6"/>
            <a:endCxn id="256" idx="2"/>
          </p:cNvCxnSpPr>
          <p:nvPr/>
        </p:nvCxnSpPr>
        <p:spPr>
          <a:xfrm>
            <a:off x="3562200" y="418572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9" idx="0"/>
            <a:endCxn id="250" idx="2"/>
          </p:cNvCxnSpPr>
          <p:nvPr/>
        </p:nvCxnSpPr>
        <p:spPr>
          <a:xfrm flipH="1" flipV="1" rot="5400000">
            <a:off x="3491280" y="1124280"/>
            <a:ext cx="2629440" cy="2989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58" idx="6"/>
            <a:endCxn id="257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57" idx="6"/>
            <a:endCxn id="253" idx="2"/>
          </p:cNvCxnSpPr>
          <p:nvPr/>
        </p:nvCxnSpPr>
        <p:spPr>
          <a:xfrm>
            <a:off x="5219280" y="5768640"/>
            <a:ext cx="1081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57" idx="0"/>
            <a:endCxn id="256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57" idx="2"/>
            <a:endCxn id="255" idx="2"/>
          </p:cNvCxnSpPr>
          <p:nvPr/>
        </p:nvCxnSpPr>
        <p:spPr>
          <a:xfrm flipH="1" rot="10800000">
            <a:off x="4715280" y="2672640"/>
            <a:ext cx="2520" cy="309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57" idx="6"/>
            <a:endCxn id="254" idx="6"/>
          </p:cNvCxnSpPr>
          <p:nvPr/>
        </p:nvCxnSpPr>
        <p:spPr>
          <a:xfrm flipV="1">
            <a:off x="5219280" y="1304640"/>
            <a:ext cx="2520" cy="4464720"/>
          </a:xfrm>
          <a:prstGeom prst="curvedConnector5">
            <a:avLst>
              <a:gd name="adj1" fmla="val 14300000"/>
              <a:gd name="adj2" fmla="val 49995"/>
              <a:gd name="adj3" fmla="val 14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56" idx="0"/>
            <a:endCxn id="255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55" idx="0"/>
            <a:endCxn id="254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54" idx="6"/>
            <a:endCxn id="251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50" idx="4"/>
            <a:endCxn id="251" idx="0"/>
          </p:cNvCxnSpPr>
          <p:nvPr/>
        </p:nvCxnSpPr>
        <p:spPr>
          <a:xfrm>
            <a:off x="6552720" y="155700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50" idx="6"/>
            <a:endCxn id="252" idx="6"/>
          </p:cNvCxnSpPr>
          <p:nvPr/>
        </p:nvCxnSpPr>
        <p:spPr>
          <a:xfrm>
            <a:off x="6804000" y="1304640"/>
            <a:ext cx="2160" cy="28818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51" idx="4"/>
            <a:endCxn id="252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52" idx="4"/>
            <a:endCxn id="253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53" idx="6"/>
            <a:endCxn id="249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2301120" y="1301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56" idx="7"/>
            <a:endCxn id="250" idx="3"/>
          </p:cNvCxnSpPr>
          <p:nvPr/>
        </p:nvCxnSpPr>
        <p:spPr>
          <a:xfrm flipV="1">
            <a:off x="5146200" y="1482480"/>
            <a:ext cx="1227960" cy="2526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2463840" y="486900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75120" y="5734080"/>
            <a:ext cx="3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1640" y="57340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9840" y="45417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9120" y="46134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25280" y="299736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0360" y="14842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06000" y="41497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08360" y="306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06000" y="11970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1120" y="137304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51480" y="3218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5C60-8126-4B92-98E0-155F3324B4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利用关键轨道算法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CPM</a:t>
            </a: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求最长关键轨道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 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4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,11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S,1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,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7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2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8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2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9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6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,11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,16+32}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8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,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,5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0,5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1,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20,48+40} = 88(</a:t>
            </a: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2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8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,13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42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43E7-0B12-41FD-83B4-9ABC0F0C9A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8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8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3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78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2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7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1" dur="1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6" dur="1000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+2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88+42} = 13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1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8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5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4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1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16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+25} = 15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,14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55}= 15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30}=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,14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8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8656-9928-4F9A-8377-44CE378C17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3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7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1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6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0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4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9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3" dur="10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7" dur="10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2" dur="1000"/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6" dur="1000"/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0" dur="1000"/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9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8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36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40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55}=165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8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,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5+28 = 19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,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7,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6,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4,1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193+16 = 209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4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,13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4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ax {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5,13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，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+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2,1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09+24 = 23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2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F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3,T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36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T</a:t>
            </a:r>
            <a:r>
              <a:rPr b="1" i="1" lang="zh-CN" sz="22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T  </a:t>
            </a:r>
            <a:r>
              <a:rPr b="1" i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=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233+36=269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（</a:t>
            </a:r>
            <a:r>
              <a:rPr b="1" lang="zh-CN" sz="2200" spc="-1" strike="noStrike">
                <a:solidFill>
                  <a:srgbClr val="ffcc00"/>
                </a:solidFill>
                <a:latin typeface="Times New Roman"/>
                <a:ea typeface="华文仿宋"/>
              </a:rPr>
              <a:t>13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）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DB41C-F9DD-40FD-A5C4-F57B311693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7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1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5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0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4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78" dur="1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3" dur="1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7" dur="10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1" dur="1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6" dur="1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0" dur="10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4" dur="10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9" dur="10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于是，得到了一条最长关键轨道 </a:t>
            </a:r>
            <a:r>
              <a:rPr b="1" lang="zh-CN" sz="27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7  11  5  3  8  2  14  12  13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3213000"/>
            <a:ext cx="43164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40720" y="314172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0072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242100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00720" y="393372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551664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16360" y="1052640"/>
            <a:ext cx="5032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16360" y="2421000"/>
            <a:ext cx="50508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16360" y="3933720"/>
            <a:ext cx="50508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5516640"/>
            <a:ext cx="50328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5516640"/>
            <a:ext cx="5047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3933720"/>
            <a:ext cx="5029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2421000"/>
            <a:ext cx="5029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1052640"/>
            <a:ext cx="50292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35280" y="4581360"/>
            <a:ext cx="50472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5280" y="1773360"/>
            <a:ext cx="504720" cy="503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15" idx="7"/>
            <a:endCxn id="330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5" idx="5"/>
            <a:endCxn id="329" idx="1"/>
          </p:cNvCxnSpPr>
          <p:nvPr/>
        </p:nvCxnSpPr>
        <p:spPr>
          <a:xfrm>
            <a:off x="1052280" y="3581280"/>
            <a:ext cx="857880" cy="107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7"/>
            <a:endCxn id="328" idx="2"/>
          </p:cNvCxnSpPr>
          <p:nvPr/>
        </p:nvCxnSpPr>
        <p:spPr>
          <a:xfrm flipV="1">
            <a:off x="2265120" y="1304640"/>
            <a:ext cx="794520" cy="54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6"/>
            <a:endCxn id="327" idx="2"/>
          </p:cNvCxnSpPr>
          <p:nvPr/>
        </p:nvCxnSpPr>
        <p:spPr>
          <a:xfrm>
            <a:off x="2340000" y="2025360"/>
            <a:ext cx="72000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5"/>
            <a:endCxn id="326" idx="1"/>
          </p:cNvCxnSpPr>
          <p:nvPr/>
        </p:nvCxnSpPr>
        <p:spPr>
          <a:xfrm>
            <a:off x="2265120" y="2203560"/>
            <a:ext cx="867240" cy="180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0" idx="4"/>
            <a:endCxn id="325" idx="1"/>
          </p:cNvCxnSpPr>
          <p:nvPr/>
        </p:nvCxnSpPr>
        <p:spPr>
          <a:xfrm>
            <a:off x="2087640" y="2276280"/>
            <a:ext cx="1046880" cy="33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29" idx="6"/>
            <a:endCxn id="324" idx="1"/>
          </p:cNvCxnSpPr>
          <p:nvPr/>
        </p:nvCxnSpPr>
        <p:spPr>
          <a:xfrm>
            <a:off x="2340000" y="4833720"/>
            <a:ext cx="2449800" cy="756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28" idx="6"/>
            <a:endCxn id="318" idx="1"/>
          </p:cNvCxnSpPr>
          <p:nvPr/>
        </p:nvCxnSpPr>
        <p:spPr>
          <a:xfrm>
            <a:off x="3562200" y="1304640"/>
            <a:ext cx="2812320" cy="118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23" idx="1"/>
            <a:endCxn id="328" idx="4"/>
          </p:cNvCxnSpPr>
          <p:nvPr/>
        </p:nvCxnSpPr>
        <p:spPr>
          <a:xfrm flipH="1" flipV="1">
            <a:off x="3311280" y="1556640"/>
            <a:ext cx="1480320" cy="245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27" idx="7"/>
            <a:endCxn id="321" idx="3"/>
          </p:cNvCxnSpPr>
          <p:nvPr/>
        </p:nvCxnSpPr>
        <p:spPr>
          <a:xfrm flipV="1">
            <a:off x="3489120" y="1482120"/>
            <a:ext cx="1300680" cy="101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27" idx="6"/>
            <a:endCxn id="322" idx="2"/>
          </p:cNvCxnSpPr>
          <p:nvPr/>
        </p:nvCxnSpPr>
        <p:spPr>
          <a:xfrm>
            <a:off x="3562200" y="267300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27" idx="6"/>
            <a:endCxn id="319" idx="1"/>
          </p:cNvCxnSpPr>
          <p:nvPr/>
        </p:nvCxnSpPr>
        <p:spPr>
          <a:xfrm>
            <a:off x="3562200" y="2673000"/>
            <a:ext cx="2813760" cy="1335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7" idx="6"/>
            <a:endCxn id="325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2700000"/>
              <a:gd name="adj2" fmla="val 50000"/>
              <a:gd name="adj3" fmla="val 12700000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26" idx="6"/>
            <a:endCxn id="323" idx="2"/>
          </p:cNvCxnSpPr>
          <p:nvPr/>
        </p:nvCxnSpPr>
        <p:spPr>
          <a:xfrm>
            <a:off x="3562200" y="4185720"/>
            <a:ext cx="11548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26" idx="0"/>
            <a:endCxn id="317" idx="2"/>
          </p:cNvCxnSpPr>
          <p:nvPr/>
        </p:nvCxnSpPr>
        <p:spPr>
          <a:xfrm flipH="1" flipV="1" rot="5400000">
            <a:off x="3491280" y="1124280"/>
            <a:ext cx="2629440" cy="29898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25" idx="6"/>
            <a:endCxn id="324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4" idx="6"/>
            <a:endCxn id="320" idx="2"/>
          </p:cNvCxnSpPr>
          <p:nvPr/>
        </p:nvCxnSpPr>
        <p:spPr>
          <a:xfrm>
            <a:off x="5219280" y="5768640"/>
            <a:ext cx="1081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4" idx="0"/>
            <a:endCxn id="323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24" idx="2"/>
            <a:endCxn id="322" idx="2"/>
          </p:cNvCxnSpPr>
          <p:nvPr/>
        </p:nvCxnSpPr>
        <p:spPr>
          <a:xfrm flipH="1" rot="10800000">
            <a:off x="4715280" y="2672640"/>
            <a:ext cx="2520" cy="30963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24" idx="6"/>
            <a:endCxn id="321" idx="6"/>
          </p:cNvCxnSpPr>
          <p:nvPr/>
        </p:nvCxnSpPr>
        <p:spPr>
          <a:xfrm flipV="1">
            <a:off x="5219280" y="1304640"/>
            <a:ext cx="2520" cy="4464720"/>
          </a:xfrm>
          <a:prstGeom prst="curvedConnector5">
            <a:avLst>
              <a:gd name="adj1" fmla="val 14300000"/>
              <a:gd name="adj2" fmla="val 49995"/>
              <a:gd name="adj3" fmla="val 14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23" idx="0"/>
            <a:endCxn id="322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22" idx="0"/>
            <a:endCxn id="321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21" idx="6"/>
            <a:endCxn id="318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17" idx="4"/>
            <a:endCxn id="318" idx="0"/>
          </p:cNvCxnSpPr>
          <p:nvPr/>
        </p:nvCxnSpPr>
        <p:spPr>
          <a:xfrm>
            <a:off x="6552720" y="1557000"/>
            <a:ext cx="1080" cy="864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17" idx="6"/>
            <a:endCxn id="319" idx="6"/>
          </p:cNvCxnSpPr>
          <p:nvPr/>
        </p:nvCxnSpPr>
        <p:spPr>
          <a:xfrm>
            <a:off x="6804000" y="1304640"/>
            <a:ext cx="2160" cy="28818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18" idx="4"/>
            <a:endCxn id="319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19" idx="4"/>
            <a:endCxn id="320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20" idx="6"/>
            <a:endCxn id="316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15" idx="7"/>
            <a:endCxn id="330" idx="3"/>
          </p:cNvCxnSpPr>
          <p:nvPr/>
        </p:nvCxnSpPr>
        <p:spPr>
          <a:xfrm flipV="1">
            <a:off x="1052280" y="2203200"/>
            <a:ext cx="857880" cy="1073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30" idx="6"/>
            <a:endCxn id="327" idx="2"/>
          </p:cNvCxnSpPr>
          <p:nvPr/>
        </p:nvCxnSpPr>
        <p:spPr>
          <a:xfrm>
            <a:off x="2340000" y="2025360"/>
            <a:ext cx="720000" cy="64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27" idx="6"/>
            <a:endCxn id="325" idx="6"/>
          </p:cNvCxnSpPr>
          <p:nvPr/>
        </p:nvCxnSpPr>
        <p:spPr>
          <a:xfrm>
            <a:off x="3561840" y="2673000"/>
            <a:ext cx="2520" cy="3096360"/>
          </a:xfrm>
          <a:prstGeom prst="curvedConnector5">
            <a:avLst>
              <a:gd name="adj1" fmla="val 13500000"/>
              <a:gd name="adj2" fmla="val 50000"/>
              <a:gd name="adj3" fmla="val 135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25" idx="6"/>
            <a:endCxn id="324" idx="2"/>
          </p:cNvCxnSpPr>
          <p:nvPr/>
        </p:nvCxnSpPr>
        <p:spPr>
          <a:xfrm>
            <a:off x="3563640" y="5768640"/>
            <a:ext cx="1152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24" idx="0"/>
            <a:endCxn id="323" idx="4"/>
          </p:cNvCxnSpPr>
          <p:nvPr/>
        </p:nvCxnSpPr>
        <p:spPr>
          <a:xfrm flipV="1">
            <a:off x="4968360" y="4438800"/>
            <a:ext cx="1080" cy="1078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23" idx="0"/>
            <a:endCxn id="322" idx="4"/>
          </p:cNvCxnSpPr>
          <p:nvPr/>
        </p:nvCxnSpPr>
        <p:spPr>
          <a:xfrm flipV="1">
            <a:off x="4968360" y="2925360"/>
            <a:ext cx="108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22" idx="0"/>
            <a:endCxn id="321" idx="4"/>
          </p:cNvCxnSpPr>
          <p:nvPr/>
        </p:nvCxnSpPr>
        <p:spPr>
          <a:xfrm flipV="1">
            <a:off x="4968360" y="1556640"/>
            <a:ext cx="1080" cy="864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21" idx="6"/>
            <a:endCxn id="318" idx="0"/>
          </p:cNvCxnSpPr>
          <p:nvPr/>
        </p:nvCxnSpPr>
        <p:spPr>
          <a:xfrm>
            <a:off x="5219640" y="1305000"/>
            <a:ext cx="1334160" cy="111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18" idx="4"/>
            <a:endCxn id="319" idx="0"/>
          </p:cNvCxnSpPr>
          <p:nvPr/>
        </p:nvCxnSpPr>
        <p:spPr>
          <a:xfrm>
            <a:off x="6552720" y="2924280"/>
            <a:ext cx="1080" cy="1010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19" idx="4"/>
            <a:endCxn id="320" idx="0"/>
          </p:cNvCxnSpPr>
          <p:nvPr/>
        </p:nvCxnSpPr>
        <p:spPr>
          <a:xfrm>
            <a:off x="6552720" y="4438800"/>
            <a:ext cx="1080" cy="1078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20" idx="6"/>
            <a:endCxn id="316" idx="3"/>
          </p:cNvCxnSpPr>
          <p:nvPr/>
        </p:nvCxnSpPr>
        <p:spPr>
          <a:xfrm flipV="1">
            <a:off x="6805080" y="3571200"/>
            <a:ext cx="1008720" cy="2197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9B08-96A4-469E-903D-F26D42C176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显然，最长关键轨道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上的工件加工顺序不能改变，还有 ① ⑥ ⑨ ⑩ 四点要插入上述序列中。把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截成两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 = 4(16)  7(32)  11(40)  5(42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 = 3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5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  8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)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2 (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8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)  14(16)  12(24)  13(36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由于工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(20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5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前加工，而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(24)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后、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前加工，所以工件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.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(20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 (12)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都必须在工件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之后，故应插入序列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614C-C2A7-4DEB-9779-680DBB9DDD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8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2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7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1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不考虑等待时间，则按任意允许方式插入均可，机车工作时间相同。但若考虑等待时间，显然，要保证完工时间最短，应尽量将加工时间少的工件先加工以减少等待时间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序列中，插入后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, 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序后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 10   9   7   11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序列中，插入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工序后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  8   6   1   2   14  12 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两段合并为一段，得到最终加工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4   10   9   7   11   5   3   8   6   1   2   14   12 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4763-77B1-4D2E-BE42-8FE620C7810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8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3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7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2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6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1" dur="1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5" dur="1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考虑加工准备时间，相当于同一个节点出发的弧上的权不再是相同的，重新求最长关键轨道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4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 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S,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7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+11 = 27(4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6+13=29(4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 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6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BCA8-A335-4EB8-982A-7048885D710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7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7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2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 {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4,11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 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7,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 {16+15,27+32+18}= 77 (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0,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11,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20+10,48+40+12}=100(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,1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max{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9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E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+t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5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 max{16+24+12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8+42+8}=13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1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6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EF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</a:rPr>
              <a:t>38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，…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6DC4-E00A-4B77-B13E-E3E5C8E0C2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3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7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2" dur="1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6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0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9" dur="1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84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44956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例 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Garamond"/>
                <a:ea typeface="华文仿宋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（设备更新问题）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设某公司需使用某种设备一套，设备购买价格及维修费用见表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现设该公司在第一年开始时新购入一套设备，问今后 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5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设备更新方案如何，才能使得总费用最省？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94200" y="1197000"/>
          <a:ext cx="4249800" cy="1387440"/>
        </p:xfrm>
        <a:graphic>
          <a:graphicData uri="http://schemas.openxmlformats.org/drawingml/2006/table">
            <a:tbl>
              <a:tblPr/>
              <a:tblGrid>
                <a:gridCol w="708120"/>
                <a:gridCol w="708120"/>
                <a:gridCol w="709560"/>
                <a:gridCol w="708120"/>
                <a:gridCol w="707760"/>
                <a:gridCol w="70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价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716360" y="3213000"/>
          <a:ext cx="4427640" cy="1622160"/>
        </p:xfrm>
        <a:graphic>
          <a:graphicData uri="http://schemas.openxmlformats.org/drawingml/2006/table">
            <a:tbl>
              <a:tblPr/>
              <a:tblGrid>
                <a:gridCol w="863640"/>
                <a:gridCol w="720720"/>
                <a:gridCol w="647640"/>
                <a:gridCol w="787680"/>
                <a:gridCol w="755640"/>
                <a:gridCol w="652320"/>
              </a:tblGrid>
              <a:tr h="84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使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年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－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维修费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612B-1CAD-48EA-AB6F-4F169A4B29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此题数据而言，最长关键轨道不变，仍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 7   11   5   3   8   2   14   12   13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仍将该轨道分为两段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 = 4  7  11  5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 = 3  8  2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共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排列，计算各种排列下的加工准备时间之和，得到加工准备时间最少的一种排列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1* = 4  7  11  10  9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8EBF4-BCC3-4D2F-AB43-21FCB59129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1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0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4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8" dur="1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3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8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将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插入序列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共有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种排列，加工准备时间最少的一种排列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P2* = 3  8  6  2  1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故考虑加工准备时间的最终加工顺序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  7  11  10  9  5  3  8  6  2  1  14  12  1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C20A-8219-4436-A402-F163C40842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5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8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Garamond"/>
                <a:ea typeface="华文行楷"/>
              </a:rPr>
              <a:t>       </a:t>
            </a:r>
            <a:r>
              <a:rPr b="1" lang="zh-CN" sz="3600" spc="-1" strike="noStrike">
                <a:solidFill>
                  <a:srgbClr val="ffcc00"/>
                </a:solidFill>
                <a:latin typeface="Garamond"/>
                <a:ea typeface="华文行楷"/>
              </a:rPr>
              <a:t>循环比赛的名次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N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支球队循环赛，每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比赛必须分出胜负，没有平局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根据比赛结果排出各队名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法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寻找按箭头方向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通过全部顶点的路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Garamond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Garamond"/>
              </a:rPr>
              <a:t>312456     </a:t>
            </a:r>
            <a:r>
              <a:rPr b="1" lang="zh-CN" sz="2800" spc="-1" strike="noStrike">
                <a:solidFill>
                  <a:srgbClr val="0099cc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…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34120" y="1095480"/>
            <a:ext cx="3809880" cy="3173400"/>
            <a:chOff x="5334120" y="1095480"/>
            <a:chExt cx="3809880" cy="3173400"/>
          </a:xfrm>
        </p:grpSpPr>
        <p:sp>
          <p:nvSpPr>
            <p:cNvPr id="385" name=""/>
            <p:cNvSpPr/>
            <p:nvPr/>
          </p:nvSpPr>
          <p:spPr>
            <a:xfrm flipV="1">
              <a:off x="6400800" y="2604600"/>
              <a:ext cx="23623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00800" y="138600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0440" y="1386000"/>
              <a:ext cx="160020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00800" y="1386000"/>
              <a:ext cx="160020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1386000"/>
              <a:ext cx="23623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604960"/>
              <a:ext cx="3124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638680" y="1386000"/>
              <a:ext cx="236232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01000" y="1386000"/>
              <a:ext cx="0" cy="25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38680" y="2604960"/>
              <a:ext cx="236232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4320" y="13860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8305560" y="191880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305560" y="3062160"/>
              <a:ext cx="2286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009920" y="39006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6019560" y="3214800"/>
              <a:ext cx="15228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19560" y="176688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7314840" y="1842840"/>
              <a:ext cx="15228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67480" y="26049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238880" y="3290760"/>
              <a:ext cx="228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15200" y="2833560"/>
              <a:ext cx="1522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01000" y="2604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476760" y="3062160"/>
              <a:ext cx="228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00800" y="26812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552720" y="199548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48520" y="1095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48720" y="10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63120" y="24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48720" y="3838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48520" y="3900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34120" y="24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00800" y="140004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01000" y="1400040"/>
              <a:ext cx="76212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000640" y="2619360"/>
              <a:ext cx="7621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400440" y="391464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5638320" y="2543040"/>
              <a:ext cx="76212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638680" y="1399680"/>
              <a:ext cx="76212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933960" y="2771640"/>
              <a:ext cx="1522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940360" y="549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支球队比赛结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13716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01000" y="137160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443280" y="38606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5651640" y="2565360"/>
            <a:ext cx="761760" cy="1371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72360" y="1341360"/>
            <a:ext cx="2361960" cy="121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716360" y="4797360"/>
            <a:ext cx="2133720" cy="520560"/>
            <a:chOff x="4716360" y="4797360"/>
            <a:chExt cx="2133720" cy="520560"/>
          </a:xfrm>
        </p:grpSpPr>
        <p:sp>
          <p:nvSpPr>
            <p:cNvPr id="428" name=""/>
            <p:cNvSpPr/>
            <p:nvPr/>
          </p:nvSpPr>
          <p:spPr>
            <a:xfrm>
              <a:off x="5097600" y="4797360"/>
              <a:ext cx="1752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无法排名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16360" y="4873320"/>
              <a:ext cx="22860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885080" y="4797360"/>
            <a:ext cx="10238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57D9-9D7D-4E16-9A8A-08B93129862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2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5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华文仿宋"/>
                <a:ea typeface="华文仿宋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方法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华文仿宋"/>
                <a:ea typeface="华文仿宋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得分：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, 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各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, 5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各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，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队胜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场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循环比赛的结果——竞赛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每对顶点间都有边相连的有向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564000" y="2060640"/>
            <a:ext cx="4103280" cy="609480"/>
            <a:chOff x="3564000" y="2060640"/>
            <a:chExt cx="4103280" cy="609480"/>
          </a:xfrm>
        </p:grpSpPr>
        <p:sp>
          <p:nvSpPr>
            <p:cNvPr id="434" name=""/>
            <p:cNvSpPr/>
            <p:nvPr/>
          </p:nvSpPr>
          <p:spPr>
            <a:xfrm>
              <a:off x="3564000" y="2060640"/>
              <a:ext cx="2509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82320" y="2060640"/>
              <a:ext cx="3684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排名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132456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合理吗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028000" y="404640"/>
            <a:ext cx="8715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539640" y="3860640"/>
            <a:ext cx="1968120" cy="1907280"/>
            <a:chOff x="539640" y="3860640"/>
            <a:chExt cx="1968120" cy="1907280"/>
          </a:xfrm>
        </p:grpSpPr>
        <p:grpSp>
          <p:nvGrpSpPr>
            <p:cNvPr id="438" name=""/>
            <p:cNvGrpSpPr/>
            <p:nvPr/>
          </p:nvGrpSpPr>
          <p:grpSpPr>
            <a:xfrm>
              <a:off x="539640" y="3860640"/>
              <a:ext cx="1968120" cy="1754280"/>
              <a:chOff x="539640" y="3860640"/>
              <a:chExt cx="1968120" cy="1754280"/>
            </a:xfrm>
          </p:grpSpPr>
          <p:sp>
            <p:nvSpPr>
              <p:cNvPr id="439" name=""/>
              <p:cNvSpPr/>
              <p:nvPr/>
            </p:nvSpPr>
            <p:spPr>
              <a:xfrm>
                <a:off x="793440" y="416556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91840" y="424152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93440" y="500364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491840" y="500364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365120" y="386064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491840" y="469872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126880" y="5232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9640" y="524664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1110960" y="454644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46360" y="4622760"/>
              <a:ext cx="19044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2200" y="43941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111320" y="5003640"/>
              <a:ext cx="38088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92200" y="5003640"/>
              <a:ext cx="317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1365120" y="5384880"/>
              <a:ext cx="25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65120" y="54608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627280" y="3789360"/>
            <a:ext cx="1968120" cy="1907280"/>
            <a:chOff x="2627280" y="3789360"/>
            <a:chExt cx="1968120" cy="1907280"/>
          </a:xfrm>
        </p:grpSpPr>
        <p:grpSp>
          <p:nvGrpSpPr>
            <p:cNvPr id="455" name=""/>
            <p:cNvGrpSpPr/>
            <p:nvPr/>
          </p:nvGrpSpPr>
          <p:grpSpPr>
            <a:xfrm>
              <a:off x="2627280" y="3789360"/>
              <a:ext cx="1968120" cy="1754280"/>
              <a:chOff x="2627280" y="3789360"/>
              <a:chExt cx="1968120" cy="1754280"/>
            </a:xfrm>
          </p:grpSpPr>
          <p:sp>
            <p:nvSpPr>
              <p:cNvPr id="456" name=""/>
              <p:cNvSpPr/>
              <p:nvPr/>
            </p:nvSpPr>
            <p:spPr>
              <a:xfrm>
                <a:off x="2881080" y="409428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79480" y="417024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881080" y="493236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79480" y="493236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452760" y="378936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79480" y="462744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14520" y="5160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27280" y="517536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 flipH="1">
              <a:off x="3262320" y="4932360"/>
              <a:ext cx="3175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79840" y="4932360"/>
              <a:ext cx="3175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452760" y="5313600"/>
              <a:ext cx="317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579840" y="455148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135600" y="455112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06920" y="4399200"/>
              <a:ext cx="2541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52760" y="5389560"/>
              <a:ext cx="4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4643280" y="3716280"/>
            <a:ext cx="1968120" cy="1907280"/>
            <a:chOff x="4643280" y="3716280"/>
            <a:chExt cx="1968120" cy="1907280"/>
          </a:xfrm>
        </p:grpSpPr>
        <p:grpSp>
          <p:nvGrpSpPr>
            <p:cNvPr id="472" name=""/>
            <p:cNvGrpSpPr/>
            <p:nvPr/>
          </p:nvGrpSpPr>
          <p:grpSpPr>
            <a:xfrm>
              <a:off x="4643280" y="3716280"/>
              <a:ext cx="1968120" cy="1754280"/>
              <a:chOff x="4643280" y="3716280"/>
              <a:chExt cx="1968120" cy="1754280"/>
            </a:xfrm>
          </p:grpSpPr>
          <p:sp>
            <p:nvSpPr>
              <p:cNvPr id="473" name=""/>
              <p:cNvSpPr/>
              <p:nvPr/>
            </p:nvSpPr>
            <p:spPr>
              <a:xfrm>
                <a:off x="4897080" y="4021200"/>
                <a:ext cx="1333440" cy="1218960"/>
              </a:xfrm>
              <a:prstGeom prst="triangle">
                <a:avLst>
                  <a:gd name="adj" fmla="val 523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95480" y="409716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4897080" y="4859280"/>
                <a:ext cx="698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95480" y="4859280"/>
                <a:ext cx="6350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68760" y="3716280"/>
                <a:ext cx="44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595480" y="4554360"/>
                <a:ext cx="31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30520" y="5087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43280" y="5102280"/>
                <a:ext cx="50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5151240" y="447804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86280" y="4402080"/>
              <a:ext cx="19044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95840" y="42498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151240" y="4935240"/>
              <a:ext cx="2538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404680" y="52405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5722560" y="4935240"/>
              <a:ext cx="25416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68760" y="5316480"/>
              <a:ext cx="4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877080" y="3645000"/>
            <a:ext cx="1968480" cy="1906920"/>
            <a:chOff x="6877080" y="3645000"/>
            <a:chExt cx="1968480" cy="1906920"/>
          </a:xfrm>
        </p:grpSpPr>
        <p:sp>
          <p:nvSpPr>
            <p:cNvPr id="489" name=""/>
            <p:cNvSpPr/>
            <p:nvPr/>
          </p:nvSpPr>
          <p:spPr>
            <a:xfrm>
              <a:off x="7131240" y="3949560"/>
              <a:ext cx="1333440" cy="1218960"/>
            </a:xfrm>
            <a:prstGeom prst="triangle">
              <a:avLst>
                <a:gd name="adj" fmla="val 52380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9640" y="4025880"/>
              <a:ext cx="0" cy="761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131240" y="4787640"/>
              <a:ext cx="69840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29640" y="4787640"/>
              <a:ext cx="63504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02560" y="364500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29640" y="448308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4680" y="5016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77080" y="50306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829640" y="4178160"/>
              <a:ext cx="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85040" y="4406760"/>
              <a:ext cx="190440" cy="304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83440" y="4406760"/>
              <a:ext cx="190800" cy="380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39200" y="5168880"/>
              <a:ext cx="317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385040" y="4863960"/>
              <a:ext cx="317520" cy="151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9640" y="4787640"/>
              <a:ext cx="380880" cy="228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02560" y="5244840"/>
              <a:ext cx="44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(4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名次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{1,2,3,4}           {2,(1,3,4)}          {(1,3,4),2}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{(1,2),(3,4)}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E29B-FC50-4A8A-9938-2D355F0F4C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双向连通竞赛图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G=(V,E)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名次排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邻接矩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得分向量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2</a:t>
            </a:r>
            <a:r>
              <a:rPr b="1" i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n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                       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 ,   e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1,1, 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1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e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2,2,1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一级得分向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2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A</a:t>
            </a:r>
            <a:r>
              <a:rPr b="1" i="1" lang="zh-CN" sz="2800" spc="-1" strike="noStrike">
                <a:solidFill>
                  <a:srgbClr val="ffffff"/>
                </a:solidFill>
                <a:latin typeface="Garamond"/>
              </a:rPr>
              <a:t>·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 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  <a:ea typeface="华文仿宋"/>
              </a:rPr>
              <a:t>(1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=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(3,2,1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T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二级得分向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04000" y="549360"/>
            <a:ext cx="2112480" cy="2125440"/>
            <a:chOff x="6804000" y="549360"/>
            <a:chExt cx="2112480" cy="2125440"/>
          </a:xfrm>
        </p:grpSpPr>
        <p:sp>
          <p:nvSpPr>
            <p:cNvPr id="508" name=""/>
            <p:cNvSpPr/>
            <p:nvPr/>
          </p:nvSpPr>
          <p:spPr>
            <a:xfrm>
              <a:off x="7076520" y="895680"/>
              <a:ext cx="1431000" cy="1385640"/>
            </a:xfrm>
            <a:prstGeom prst="triangle">
              <a:avLst>
                <a:gd name="adj" fmla="val 52380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26400" y="982440"/>
              <a:ext cx="0" cy="865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076520" y="1847880"/>
              <a:ext cx="74952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26400" y="1848240"/>
              <a:ext cx="681480" cy="433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89960" y="549360"/>
              <a:ext cx="4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826400" y="1502280"/>
              <a:ext cx="34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7880" y="2108160"/>
              <a:ext cx="4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04000" y="212436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6400" y="1155600"/>
              <a:ext cx="0" cy="346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349040" y="1415520"/>
              <a:ext cx="204120" cy="3463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98560" y="1415520"/>
              <a:ext cx="204480" cy="432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7621920" y="2281680"/>
              <a:ext cx="340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349040" y="1935000"/>
              <a:ext cx="340560" cy="172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26400" y="1848240"/>
              <a:ext cx="408600" cy="259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9960" y="2367720"/>
              <a:ext cx="47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(4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3" name=""/>
          <p:cNvGraphicFramePr/>
          <p:nvPr/>
        </p:nvGraphicFramePr>
        <p:xfrm>
          <a:off x="2340000" y="1268280"/>
          <a:ext cx="3527280" cy="18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3527280" cy="18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9F29-FCB9-458B-BFB6-0161876BAF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2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3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3" dur="10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8" dur="10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3" dur="10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8" dur="1000"/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k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级得分向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矩阵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最大特征根为正单根</a:t>
            </a:r>
            <a:r>
              <a:rPr b="1" i="1" lang="zh-CN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对应正特征向量</a:t>
            </a:r>
            <a:r>
              <a:rPr b="1" i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且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竞赛图（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排名为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{1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3 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3276720" y="344520"/>
          <a:ext cx="287964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4520"/>
                    <a:ext cx="2879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48000" y="1197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30" name=""/>
          <p:cNvGraphicFramePr/>
          <p:nvPr/>
        </p:nvGraphicFramePr>
        <p:xfrm>
          <a:off x="3419640" y="2852640"/>
          <a:ext cx="29527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852640"/>
                    <a:ext cx="2952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2916360" y="4221000"/>
            <a:ext cx="5039640" cy="1028520"/>
            <a:chOff x="2916360" y="4221000"/>
            <a:chExt cx="5039640" cy="1028520"/>
          </a:xfrm>
        </p:grpSpPr>
        <p:graphicFrame>
          <p:nvGraphicFramePr>
            <p:cNvPr id="533" name=""/>
            <p:cNvGraphicFramePr/>
            <p:nvPr/>
          </p:nvGraphicFramePr>
          <p:xfrm>
            <a:off x="3715560" y="4221000"/>
            <a:ext cx="4240440" cy="102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15560" y="4221000"/>
                      <a:ext cx="424044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5" name=""/>
            <p:cNvSpPr/>
            <p:nvPr/>
          </p:nvSpPr>
          <p:spPr>
            <a:xfrm>
              <a:off x="2916360" y="4440240"/>
              <a:ext cx="179280" cy="531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2400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8028000" y="404640"/>
            <a:ext cx="87156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36C1-950D-4CF8-9E97-091DEFD5C9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0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0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4" dur="10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回到循环比赛问题，其邻接矩阵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979640" y="836640"/>
          <a:ext cx="46083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36640"/>
                    <a:ext cx="460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332000" y="3284640"/>
          <a:ext cx="640872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284640"/>
                    <a:ext cx="64087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988920" y="4653000"/>
          <a:ext cx="709452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8920" y="4653000"/>
                    <a:ext cx="7094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1835280" y="5516640"/>
            <a:ext cx="5333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排名次序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{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21A6-34E9-4C84-87C8-804DB8905D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  </a:t>
            </a:r>
            <a:r>
              <a:rPr b="0" i="1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Thanks!</a:t>
            </a:r>
            <a:r>
              <a:rPr b="0" lang="zh-CN" sz="10000" spc="-1" strike="noStrike">
                <a:solidFill>
                  <a:srgbClr val="ffcc00"/>
                </a:solidFill>
                <a:latin typeface="华文行楷"/>
                <a:ea typeface="华文行楷"/>
              </a:rPr>
              <a:t> </a:t>
            </a:r>
            <a:endParaRPr b="0" lang="en-US" sz="10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C9C0-4138-4ED8-ACA3-A670C4244A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建立网络模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结点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开始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购买一套设备，结点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为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设结点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用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购买费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m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表示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个使用年限的维修费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弧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(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,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的长度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d</a:t>
            </a:r>
            <a:r>
              <a:rPr b="1" i="1" lang="zh-CN" sz="24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ij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为第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i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的购买费与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- i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年里的维修费之和，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求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⑥的最短路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5148360" cy="324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54240" y="4508640"/>
          <a:ext cx="3252960" cy="10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4240" y="4508640"/>
                    <a:ext cx="3252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3CC5-C9DF-4C0E-B8B6-A399348BD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9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7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Dijkstra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——标号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为了简便，将图改为完全图，令虚设的弧的长度为∞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 (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i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第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个点的临时标号。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)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——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第 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个点的永久标号，表示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的最短路长。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            </a:t>
            </a:r>
            <a:r>
              <a:rPr b="1" lang="zh-CN" sz="2600" spc="-1" strike="noStrike">
                <a:solidFill>
                  <a:srgbClr val="ffcc00"/>
                </a:solidFill>
                <a:latin typeface="Garamond"/>
                <a:ea typeface="华文仿宋"/>
              </a:rPr>
              <a:t>基本思想：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从起点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S</a:t>
            </a:r>
            <a:r>
              <a:rPr b="1" i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  <a:ea typeface="华文仿宋"/>
              </a:rPr>
              <a:t>沿一切可能的弧派遣使者，这些使者均以相同的速度匀速前进，最早有使者到达的顶点作上记号（临时标号），记下历经的路的长度，然后从这点沿所有可能的弧再派出使者，这些使者与原来尚未到达顶点的使者一起以相同速度匀速前进，…，重复以上过程，直到有人到达终点为止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C2F6-B342-4233-9206-6051B3FA83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cc00"/>
                </a:solidFill>
                <a:latin typeface="Garamond"/>
                <a:ea typeface="华文仿宋"/>
              </a:rPr>
              <a:t>         </a:t>
            </a:r>
            <a:r>
              <a:rPr b="1" lang="zh-CN" sz="2800" spc="-1" strike="noStrike">
                <a:solidFill>
                  <a:srgbClr val="ffcc00"/>
                </a:solidFill>
                <a:latin typeface="Garamond"/>
                <a:ea typeface="华文仿宋"/>
              </a:rPr>
              <a:t>算法步骤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1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令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1)=T(1)=0,  T( j )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∞,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j = 2,3,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2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计算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1)+d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1j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,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j =  2,3, 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N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如果结点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临时标号发生了变化，就令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j ) = 1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3</a:t>
            </a: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在所有临时标号中，取出最小的一个标号（若有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多个，任取其一），改为永久性标号，即若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临时标号最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一个结点，则令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 k )=T( k )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若无临时标号点或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= N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则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5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；否则，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4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9D0A-C7E9-45FA-B688-E93274CEE2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4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刚获得永久性标号的点为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对每个具有临时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标号的点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计算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               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=</a:t>
            </a:r>
            <a:r>
              <a:rPr b="1" lang="zh-CN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min {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 , P(k)+d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  <a:ea typeface="华文仿宋"/>
              </a:rPr>
              <a:t>kj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 }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对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T( j )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发生了变化的每个结点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j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，令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j ) = k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,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然后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转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Step 3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600" spc="-1" strike="noStrike" u="sng">
                <a:solidFill>
                  <a:srgbClr val="ffffff"/>
                </a:solidFill>
                <a:uFillTx/>
                <a:latin typeface="Times New Roman"/>
              </a:rPr>
              <a:t>Step 5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华文仿宋"/>
              </a:rPr>
              <a:t>P(N) 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为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的最短路的长。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设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PRIOR(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) =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,  i=1,2,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…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n;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1 , 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N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则最短路径为：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 =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→ … →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 = N.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5D6A-054A-4674-8D64-D731161844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回到例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①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1) = 0 ,  T(j) =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∞,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j = 2,3, …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,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②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2) = 0+16 = 16 ,   T(3) = 0+22 = 22 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4) = 0+30 = 30,    T(5) = 0+41 = 41 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T(6) = 0+59 = 5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j ) = 1 , j = 2,3,4,5,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③  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  <a:ea typeface="华文仿宋"/>
              </a:rPr>
              <a:t>令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(2) = 16 ,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即给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永久性标号为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16.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④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3) = min {T(3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22, 16+16} =2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4) = min {T(4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30, 16+22}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5) = min {T(5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41, 16+30} =4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6) = min {T(6) , P(2)+d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} = min {59, 16+41} = 5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只有结点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改变了临时标号，令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PRIOR( 6 ) =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8920" y="333360"/>
            <a:ext cx="374508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网络模型与统筹模型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C9CD-7639-41A9-AED9-84160C3E4D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数学建模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1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2:35:06Z</dcterms:created>
  <dc:creator>wmd</dc:creator>
  <dc:description/>
  <dc:language>en-US</dc:language>
  <cp:lastModifiedBy>秋　风　辞</cp:lastModifiedBy>
  <dcterms:modified xsi:type="dcterms:W3CDTF">2009-03-15T06:54:08Z</dcterms:modified>
  <cp:revision>79</cp:revision>
  <dc:subject/>
  <dc:title>数  学  建  模</dc:title>
</cp:coreProperties>
</file>